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6AB74-9E2C-4869-8856-DAD87EEEA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791EB-CEDB-40E4-8646-9EA7E7BDB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DFDF6-70EF-4CD9-86AB-FF509D182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D6096-FED6-4CDA-AD78-475110E45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761A3-7B0E-4299-B28F-5AABF5920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94E98-42E6-4068-B0F1-FE8DB36B2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37C68-792B-4C35-B9A0-9A9B43A6B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C7143-1957-44E2-BA1D-CA7EDF8F3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4EE34-8BC7-46FD-B3D1-A20BC1DCA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3838B-3A17-4154-A8D2-46ADBFE1E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D548B-D3DA-4036-A1DF-6EAC02C7F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08C3E-D3C4-44FC-B4BB-A3683172E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7F7AB-E71D-4887-9C03-E83AB7BEE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340FC-3078-49BB-B463-58746263E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222F4-32C7-4A17-B9FF-5D205AB0A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6B1A0-4E53-4899-A34B-76353D614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60694-F9D3-47F7-AC95-F144447DD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D2E95-E471-4D3A-800D-48C364EBA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0CE72-7CFE-45F0-9165-BBB15E8D0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F0ADA-EE3A-44E2-8BA3-64321A787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627E8-94F8-41BE-9241-DB36C06E7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707F1-A9B1-4851-958B-D89EDE72D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CF48A-F4E5-42BF-A357-3069CD9C8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0D9F2-80D9-4920-8CD2-EC5906C1E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1D5C5-C330-4D3D-B7D7-20D8EB23B66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92A9D-DEE2-48A1-95A2-8CEDFC910CC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greengrowth.go.kr/green/green01.html" TargetMode="External"/><Relationship Id="rId2" Type="http://schemas.openxmlformats.org/officeDocument/2006/relationships/hyperlink" Target="http://olv.moazine.com/rviewer/index.asp" TargetMode="External"/><Relationship Id="rId3" Type="http://schemas.openxmlformats.org/officeDocument/2006/relationships/hyperlink" Target="http://cafe.naver.com/pellet/20" TargetMode="External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466560"/>
            <a:ext cx="7143840" cy="639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330066"/>
                </a:solidFill>
                <a:latin typeface="굴림"/>
              </a:rPr>
              <a:t> </a:t>
            </a:r>
            <a:br>
              <a:rPr sz="5400"/>
            </a:br>
            <a:r>
              <a:rPr b="1" lang="ko-KR" sz="5400" spc="-1" strike="noStrike">
                <a:solidFill>
                  <a:srgbClr val="330066"/>
                </a:solidFill>
                <a:latin typeface="굴림"/>
              </a:rPr>
              <a:t>목재펠릿을 이용한</a:t>
            </a:r>
            <a:br>
              <a:rPr sz="5400"/>
            </a:br>
            <a:r>
              <a:rPr b="1" lang="ko-KR" sz="5400" spc="-1" strike="noStrike">
                <a:solidFill>
                  <a:srgbClr val="330066"/>
                </a:solidFill>
                <a:latin typeface="굴림"/>
              </a:rPr>
              <a:t>바이오매스 </a:t>
            </a:r>
            <a:br>
              <a:rPr sz="5400"/>
            </a:br>
            <a:br>
              <a:rPr sz="4000"/>
            </a:br>
            <a:br>
              <a:rPr sz="4000"/>
            </a:br>
            <a:br>
              <a:rPr sz="3600"/>
            </a:br>
            <a:br>
              <a:rPr sz="3600"/>
            </a:b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6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조</a:t>
            </a:r>
            <a:br>
              <a:rPr sz="3900"/>
            </a:b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장재경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,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이병준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,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정지용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,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오세중</a:t>
            </a:r>
            <a:br>
              <a:rPr sz="3900"/>
            </a:b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②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재생산 가능한 목재자원을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이용하여 생산하기 때문에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화석연료를 대체하여 온실가스를 감소시키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친환경 연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아황산가스를 비롯한 유해가스를 배출하지 않음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③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68360" y="22575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숲가꾸기 발생 산물이나 제재 산물을 이용 가능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자원의 순환 이용에 기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지역 산림사업 일자리 창출에 도움을 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</a:t>
            </a:r>
            <a:br>
              <a:rPr sz="2800"/>
            </a:br>
            <a:r>
              <a:rPr b="1" lang="ko-KR" sz="2800" spc="-1" strike="noStrike">
                <a:solidFill>
                  <a:srgbClr val="330066"/>
                </a:solidFill>
                <a:latin typeface="굴림"/>
              </a:rPr>
              <a:t>우드 펠렛의 경제성</a:t>
            </a:r>
            <a:endParaRPr b="1" lang="en-US" sz="2800" spc="-1" strike="noStrike">
              <a:solidFill>
                <a:srgbClr val="330066"/>
              </a:solidFill>
              <a:latin typeface="굴림"/>
            </a:endParaRPr>
          </a:p>
        </p:txBody>
      </p:sp>
      <p:pic>
        <p:nvPicPr>
          <p:cNvPr id="183" name="Picture 4" descr=""/>
          <p:cNvPicPr/>
          <p:nvPr/>
        </p:nvPicPr>
        <p:blipFill>
          <a:blip r:embed="rId1"/>
          <a:stretch/>
        </p:blipFill>
        <p:spPr>
          <a:xfrm>
            <a:off x="468360" y="1701720"/>
            <a:ext cx="5040360" cy="32400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5" descr=""/>
          <p:cNvPicPr/>
          <p:nvPr/>
        </p:nvPicPr>
        <p:blipFill>
          <a:blip r:embed="rId2"/>
          <a:stretch/>
        </p:blipFill>
        <p:spPr>
          <a:xfrm>
            <a:off x="4660920" y="3429000"/>
            <a:ext cx="4448160" cy="31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국내 이용사례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477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화순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나주 펠렛 보일러 공장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7" name="_x65241240" descr="EMB000009345997"/>
          <p:cNvPicPr/>
          <p:nvPr/>
        </p:nvPicPr>
        <p:blipFill>
          <a:blip r:embed="rId1"/>
          <a:stretch/>
        </p:blipFill>
        <p:spPr>
          <a:xfrm>
            <a:off x="611280" y="1989000"/>
            <a:ext cx="4105080" cy="2830680"/>
          </a:xfrm>
          <a:prstGeom prst="rect">
            <a:avLst/>
          </a:prstGeom>
          <a:ln w="0">
            <a:noFill/>
          </a:ln>
        </p:spPr>
      </p:pic>
      <p:sp>
        <p:nvSpPr>
          <p:cNvPr id="188" name="Rectangle 5"/>
          <p:cNvSpPr/>
          <p:nvPr/>
        </p:nvSpPr>
        <p:spPr>
          <a:xfrm>
            <a:off x="4753080" y="198900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전남 화순과 나주에 숲가꾸기 사업의 부산물인 펠렛을 활용한 보일러 공장이 잇따라 들어선다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농가 등지에서 많이 사용하는 펠렛 보일러 가격은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433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만원대로 일반 기름보일러보다 비싸나 보일러 가격의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70%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를 국고로 보조하고 있어 최근 보급량이 늘고 있는 추세이다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9" name="Text Box 6"/>
          <p:cNvSpPr/>
          <p:nvPr/>
        </p:nvSpPr>
        <p:spPr>
          <a:xfrm>
            <a:off x="539640" y="4869000"/>
            <a:ext cx="83534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펠렛은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2kg(800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원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을 난방 연료로 사용할 경우 가정용 난방유인 등유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1L(930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원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에 비해 같은 열효율을 내는데 반해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14%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의 에너지 절감효과와 함께 친환경 목질 연료라는 장점을 가지고 있다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국외 이용사례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(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일본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)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518328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일본 이와테현 구즈마키 마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&gt;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마을의 주요 산업인 낙농업과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임업의 발전을 위해 구즈마키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고원 목장에 축분 바이오가스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시스템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37kW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을 도입하였으며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공공시설과 가정 등에 목질펠렛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보일러 스토브를 도입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92" name="Picture 4" descr="EMB000005880001"/>
          <p:cNvPicPr/>
          <p:nvPr/>
        </p:nvPicPr>
        <p:blipFill>
          <a:blip r:embed="rId1"/>
          <a:stretch/>
        </p:blipFill>
        <p:spPr>
          <a:xfrm>
            <a:off x="5580000" y="1628640"/>
            <a:ext cx="3260880" cy="4896000"/>
          </a:xfrm>
          <a:prstGeom prst="rect">
            <a:avLst/>
          </a:prstGeom>
          <a:ln w="0">
            <a:noFill/>
          </a:ln>
          <a:effectLst>
            <a:outerShdw dist="125751" dir="2700000" blurRad="0" rotWithShape="0">
              <a:srgbClr val="669999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결  론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68360" y="1754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목질 펠렛이 플라스틱 목재 및 종이류 음식물 쓰레기 등 폐자원을 에너지원으로 이용하여 저렴한 비용으로 에너지를 생산할 수 있고 폐기물 처리비도 절감 할 수 있다는 결과가 나옴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뿐만 아니라 온실감축에도 도움이 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펠렛에는 자동화가 진행되고 점화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소화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온도조절이 스위치로 할 수 있고 편의성에서도 화석연료의 연소기기에 비해 손색이 없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연료로서 취급이 용이함과 비용과의 균형이 좋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결  론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28400" y="1753920"/>
            <a:ext cx="8715240" cy="510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한편 폐목재를  펫릿으로 제조하기 까지는 많은 공정과 정밀 기술이 필요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부산물이나 산림  피해목 신도시 건설에서 발생하는 개발 부산물 등 목질께 바이오매스에 이용 가능량은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530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㎡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로 추산됨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실제로 수집되고 활용되는 비율은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20%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에도 미치지 못하고 있는 상황임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향후 바이오매스 수요증가에 따라 국내 보존하는 산림 부산물 및 폐목재에 대한 수요 증가로 이에 대한 대책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또한 필요하며 통일적인 규격을 만드는 것이 중요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참고 문헌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68360" y="1754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Rectangle 4"/>
          <p:cNvSpPr/>
          <p:nvPr/>
        </p:nvSpPr>
        <p:spPr>
          <a:xfrm>
            <a:off x="395280" y="1844640"/>
            <a:ext cx="8497800" cy="42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미래연료 펠렛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kcpension.co.kr/gesipan/files/tb_61081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산림조합 산림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2004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년 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11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월호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녹색성장</a:t>
            </a:r>
            <a:r>
              <a:rPr b="0" lang="en-US" sz="2400" spc="-1" strike="noStrike" u="sng">
                <a:solidFill>
                  <a:srgbClr val="7e9ce8"/>
                </a:solidFill>
                <a:uFillTx/>
                <a:latin typeface="굴림"/>
                <a:hlinkClick r:id="rId1"/>
              </a:rPr>
              <a:t>http://www.greengrowth.go.kr/green/green01.htm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다음 게시판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&gt;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전지 잡지 포탈 모아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7e9ce8"/>
                </a:solidFill>
                <a:uFillTx/>
                <a:latin typeface="굴림"/>
                <a:hlinkClick r:id="rId2"/>
              </a:rPr>
              <a:t>http://olv.moazine.com/rviewer/index.asp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네이버 카페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&gt;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신재생에너지 목재 압축연료 펠릿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7e9ce8"/>
                </a:solidFill>
                <a:uFillTx/>
                <a:latin typeface="굴림"/>
                <a:hlinkClick r:id="rId3"/>
              </a:rPr>
              <a:t>http://cafe.naver.com/pellet/20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55280" y="2708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330066"/>
                </a:solidFill>
                <a:latin typeface="굴림"/>
              </a:rPr>
              <a:t>Thank you!</a:t>
            </a:r>
            <a:endParaRPr b="1" lang="en-US" sz="45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68360" y="1754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754380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  차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1" name="AutoShape 5"/>
          <p:cNvSpPr/>
          <p:nvPr/>
        </p:nvSpPr>
        <p:spPr>
          <a:xfrm>
            <a:off x="684360" y="198756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ⅱ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본  론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AutoShape 6"/>
          <p:cNvSpPr/>
          <p:nvPr/>
        </p:nvSpPr>
        <p:spPr>
          <a:xfrm>
            <a:off x="684360" y="1268280"/>
            <a:ext cx="7127640" cy="64800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ⅰ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서  론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AutoShape 7"/>
          <p:cNvSpPr/>
          <p:nvPr/>
        </p:nvSpPr>
        <p:spPr>
          <a:xfrm>
            <a:off x="684360" y="270828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목재 펠렛의 정의 및 제조과정</a:t>
            </a:r>
            <a:endParaRPr b="0" lang="en-US" sz="3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AutoShape 8"/>
          <p:cNvSpPr/>
          <p:nvPr/>
        </p:nvSpPr>
        <p:spPr>
          <a:xfrm>
            <a:off x="684360" y="342756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목재 펠렛의 특징</a:t>
            </a:r>
            <a:endParaRPr b="0" lang="en-US" sz="3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AutoShape 9"/>
          <p:cNvSpPr/>
          <p:nvPr/>
        </p:nvSpPr>
        <p:spPr>
          <a:xfrm>
            <a:off x="684360" y="414828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국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내외 이용사례</a:t>
            </a:r>
            <a:endParaRPr b="0" lang="en-US" sz="3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AutoShape 10"/>
          <p:cNvSpPr/>
          <p:nvPr/>
        </p:nvSpPr>
        <p:spPr>
          <a:xfrm>
            <a:off x="684360" y="486720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ⅲ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결  론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AutoShape 11"/>
          <p:cNvSpPr/>
          <p:nvPr/>
        </p:nvSpPr>
        <p:spPr>
          <a:xfrm>
            <a:off x="684360" y="558792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ⅳ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참고문헌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56760" y="-360"/>
            <a:ext cx="7543800" cy="171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서  론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-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주제 선정 동기</a:t>
            </a:r>
            <a:br>
              <a:rPr sz="3900"/>
            </a:b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교토의정서의 발효로 인한 탄소 배출권의 문제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재생에너지의 개발이 요구되고 있는 현실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산림에 방치되고 있는 임지잔재를 이용한 에너지 문제가 거론되면서 산림 바이오매스 에너지에 대한 중요성 커지고 있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이와 같은 사회적 추세에 발맞추어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산림 바이오매스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에너지 활용을 위한 발표를 하기 위해 조사를 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목재 펠렛이란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산림에서 생산된 목재나 제재소에서 나오는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산물을 톱밥으로 분쇄한 다음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높은 온도와 압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력으로 압축하여 일정한 크기로 생산한 청정 목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질계 바이오 연료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2" name="Picture 4" descr="Holzpellets6mm_Rettenmaier_03"/>
          <p:cNvPicPr/>
          <p:nvPr/>
        </p:nvPicPr>
        <p:blipFill>
          <a:blip r:embed="rId1"/>
          <a:srcRect l="7998" t="12671" r="13501" b="24667"/>
          <a:stretch/>
        </p:blipFill>
        <p:spPr>
          <a:xfrm>
            <a:off x="1042920" y="4149720"/>
            <a:ext cx="3024360" cy="2705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63" name="Picture 5" descr="Holzpellets8mm_Pajala_01"/>
          <p:cNvPicPr/>
          <p:nvPr/>
        </p:nvPicPr>
        <p:blipFill>
          <a:blip r:embed="rId2"/>
          <a:srcRect l="14743" t="28740" r="19153" b="20620"/>
          <a:stretch/>
        </p:blipFill>
        <p:spPr>
          <a:xfrm>
            <a:off x="4716360" y="4149720"/>
            <a:ext cx="3168720" cy="2664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6" name="Picture 4" descr=""/>
          <p:cNvPicPr/>
          <p:nvPr/>
        </p:nvPicPr>
        <p:blipFill>
          <a:blip r:embed="rId1"/>
          <a:stretch/>
        </p:blipFill>
        <p:spPr>
          <a:xfrm>
            <a:off x="900000" y="1844640"/>
            <a:ext cx="7256520" cy="41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9" name="Picture 4" descr=""/>
          <p:cNvPicPr/>
          <p:nvPr/>
        </p:nvPicPr>
        <p:blipFill>
          <a:blip r:embed="rId1"/>
          <a:stretch/>
        </p:blipFill>
        <p:spPr>
          <a:xfrm>
            <a:off x="0" y="1322280"/>
            <a:ext cx="9144000" cy="53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94920" y="122400"/>
            <a:ext cx="7543800" cy="1434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</a:t>
            </a:r>
            <a:br>
              <a:rPr sz="3900"/>
            </a:br>
            <a:r>
              <a:rPr b="1" lang="ko-KR" sz="2600" spc="-1" strike="noStrike">
                <a:solidFill>
                  <a:srgbClr val="330066"/>
                </a:solidFill>
                <a:latin typeface="굴림"/>
              </a:rPr>
              <a:t>연료단위 비용당 발열량 및 가격대</a:t>
            </a:r>
            <a:endParaRPr b="1" lang="en-US" sz="26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2" name="Picture 4" descr=""/>
          <p:cNvPicPr/>
          <p:nvPr/>
        </p:nvPicPr>
        <p:blipFill>
          <a:blip r:embed="rId1"/>
          <a:stretch/>
        </p:blipFill>
        <p:spPr>
          <a:xfrm>
            <a:off x="539640" y="2133720"/>
            <a:ext cx="826632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제조과정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톱밥저장→ 건조 후 수분함량 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50%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에서 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8%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까지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떨어짐 보관 → 톱밥 분쇄 후 수분박막 씌움 →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사출기로 재료를 넣고 뽑음 → 목질소가 활성화로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목질 섬유 접착 → 식힌 후 보관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5" name="_x92934864" descr="EMB00000934598f"/>
          <p:cNvPicPr/>
          <p:nvPr/>
        </p:nvPicPr>
        <p:blipFill>
          <a:blip r:embed="rId1"/>
          <a:stretch/>
        </p:blipFill>
        <p:spPr>
          <a:xfrm>
            <a:off x="430200" y="3238560"/>
            <a:ext cx="871380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①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68360" y="218556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작고 일정한 크기고 압축되어 생산되기 때문에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작은 공간에 많은 양을 저장할 수 있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난방장치의 크기를 소형화할 수 있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연료공급을 자동화할 수 있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5T11:17:09Z</dcterms:created>
  <dc:creator/>
  <dc:description/>
  <dc:language>en-US</dc:language>
  <cp:lastModifiedBy>이병준</cp:lastModifiedBy>
  <dcterms:modified xsi:type="dcterms:W3CDTF">2012-05-30T10:26:59Z</dcterms:modified>
  <cp:revision>32</cp:revision>
  <dc:subject/>
  <dc:title>저탄소 녹색성장  목재펠릿</dc:title>
</cp:coreProperties>
</file>