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18C8-F427-4AB6-BF1E-C1F0BA30A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AF2A-B4C6-4DFC-AB78-7D82DA576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88691-5777-4752-9877-BAF667520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4840-0C78-4987-A37C-072BD45EB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309E0-F557-4CB1-BADB-20501C5B4B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87123-A375-4F6F-BCCC-7385F474A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DE79A-B26D-4F9D-85F6-01A1D0B85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EF2B5-DA08-4822-9C1A-6E54525C0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91E2E-A805-4CC8-BC35-268717257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0484B-FC2B-4671-AE2B-3D669FA2E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DCD45-836A-4EEE-B24C-193F25CC4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1FF9-2228-4C4F-82E7-C9B6F7E63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737DC-D676-417A-8D39-DE0EFB31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ECEC8-7266-492D-946E-F64DDE59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596AD-B3A1-4CF5-AA60-40A19DEC5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21095-A317-4523-8484-67B21C624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B07B6-1D81-4432-8A6B-FA21DA28F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D8AB-A5CA-4117-BF60-86F875064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8A304-2DF4-43E3-B4B5-DF04AFE90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B2134-636F-44FC-BDE3-E00F8B423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EB8CC-E5D4-4327-A617-CF061A2EE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3E61-913A-42D3-B9F5-D59C93F6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1397-D40B-4128-A929-94319D3EB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E9D0-19DD-4CBF-9F1D-7B12D73EC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743A8-EC60-4478-BD26-317D6BC9DB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BF3DF-BFE3-47D7-A683-0F5476CADB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11</a:t>
            </a: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장 지체장애아 교육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정의 및 분류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미국 공법에 의한 지체장애의 정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형외과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경학적 손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하지장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편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디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단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삼지마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더블 헤미플리지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의 정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최중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뇌성마비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체장애 중 가장 높은 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이상과 관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적 능력의 다양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가 장애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장애와 함께 지능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 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성마비의 분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경직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50-6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긴장이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수의 운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25-30%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지의 대근육 통제 문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cc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실조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1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운동 조정의 어려움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기타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분척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진행성 근위축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골형성 부전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척수 손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b7e7ff"/>
                </a:solidFill>
                <a:latin typeface="굴림"/>
              </a:rPr>
              <a:t>간질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대발작과 소발작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심리요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작기록 양식의 예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간질에 대한 대처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관찰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컴퓨터 보조 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굴림"/>
              </a:rPr>
              <a:t>Any Questions??</a:t>
            </a:r>
            <a:endParaRPr b="0" lang="en-US" sz="4400" spc="-1" strike="noStrike">
              <a:solidFill>
                <a:srgbClr val="b7e7ff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2411280" y="1916280"/>
            <a:ext cx="4248360" cy="38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8T16:46:33Z</dcterms:created>
  <dc:creator>.</dc:creator>
  <dc:description/>
  <dc:language>en-US</dc:language>
  <cp:lastModifiedBy>f</cp:lastModifiedBy>
  <dcterms:modified xsi:type="dcterms:W3CDTF">2007-05-17T01:34:04Z</dcterms:modified>
  <cp:revision>14</cp:revision>
  <dc:subject/>
  <dc:title>제 11장 전환교육</dc:title>
</cp:coreProperties>
</file>