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4B888-4652-4AEA-BA09-AA961345A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C1F2-CE6A-4BF1-A05E-7333C6568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1F246-81F0-4F54-A08B-184FB5CA6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72DB3-C95F-420E-8009-4DF64A0E4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A35B7-B508-4551-A2AB-E171F941A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E495A-7A2F-49BC-BDD9-AED1D6F18B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1D5E4-A91D-4B5F-BAAB-4606C2D03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E9B48-26A5-4C55-B9D9-EDE9F581C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26D66-3562-448E-B09E-A968C3230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39756-8B40-46B6-92B9-36F98A73B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2DBDF-5875-47BE-8F8E-519112BE0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9A4B0-4217-4AC4-A289-CBF0F0614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2AEDE-FABD-4834-8CDB-340A4403C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C2FCE-C1F6-4D86-8DC0-00120FF5B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462CE9-67AE-4129-B516-FC7DF62C8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24BA2-6FB9-4E20-9FF5-D43C190F3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B1DF0-2942-4181-85F1-0D99C52D1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F26D-E40F-433E-B531-D8194FFEB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4D640-AECB-4440-973F-475774402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7287-2205-485A-9D2C-85208B166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26AC9-5472-4B6B-8482-3B7D74CC3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9F116-5067-44D9-BEC1-9C8448288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A76C2-9BB5-4FBE-9A38-B3327710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68F5-1385-411B-BDD8-283F597BC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EDBC9-CD9A-40A6-8356-1E9BF9575F8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1E41E-B71A-4785-AB76-D1EDD9CB8621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3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장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공동 협력의 개념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Collaboration)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이란 교사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아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가족이 문제 해결을 위하여 자신들이 지닌 자원과 강점을 공유하는 역동적인 과정이다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과 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과는 차이가 있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상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/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자문이란 한 사람의 전문가가 문제해결을 도와주는 과정이므로 동등한 입장이 아니지만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은 참여자 모두가 동등한 자격으로 의무를 공유하고 의사결정을 함께 내리는 것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동 협력은 결혼의 조건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신랑과 신부의 관계 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부모와 교사의 공동 협력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협력 증진 방안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학교활동에 부모참여를 촉진하는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부모와 교사의 회의 전략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특수교사와 일반교사의 공동 협력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일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특수교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의사소통 전략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공동협력의 예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실관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사 인터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학급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차이점 해결방안 모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결론 및 논의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협력의 필요성 인식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공동 협력이 되지 않는 이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해결 방안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f</cp:lastModifiedBy>
  <dcterms:modified xsi:type="dcterms:W3CDTF">2007-03-28T05:38:25Z</dcterms:modified>
  <cp:revision>14</cp:revision>
  <dc:subject/>
  <dc:title>농아동의 수학교과교육</dc:title>
</cp:coreProperties>
</file>