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AB59-18F4-4230-A9EB-750C96646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164E-FA7B-4E41-B244-2082CB716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6855-B24B-4952-BE94-71940FBA4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6B43-565B-4FBD-AF3C-6184781C1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D0B94-27CE-4824-8C98-F34A6C5A7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89B73-6E50-4AB0-99E2-09634C75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5FAF6-815D-4887-9A46-35B5B8E98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4ECCE-919D-42A2-8CCC-84738B4AC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2351-70E8-4CA6-8D2F-3B5E39DE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D3A3E-373F-4DC1-87CA-EE06D0B00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072F4-3531-4ACB-8BF8-3DED192ED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AC6C0-6D2B-4F00-8112-631678050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E404-F080-419D-B8E8-A5EE02127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0E2A-6C9C-4245-AA0F-4E152A481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2AF43-ACDB-4F96-9B91-F18AA02D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9333F-4445-4679-BEE9-EE90E9B04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ABBFD-8014-47DA-9FAC-C22F8EBB1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2A093-8BDD-43A3-A610-B8E38F42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B39BA-2F04-4514-9218-F1AF9884E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31CA-E639-4FB8-B09A-FCC24A959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4C19B-C629-45A9-9F26-573B87E11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C6174-D3CD-4367-9021-6B4149FC2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2482-ADC7-4495-8BA7-104A5DA8E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7C14-8E18-468A-A7B6-33942FFDD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38065-3F8E-4AEB-85CF-66D06FC8990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431D4-78FB-4AC5-983C-10ADDF4C7C4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제 </a:t>
            </a:r>
            <a:r>
              <a:rPr b="0" lang="en-US" sz="4800" spc="-1" strike="noStrike">
                <a:solidFill>
                  <a:srgbClr val="b2b2b2"/>
                </a:solidFill>
                <a:latin typeface="굴림"/>
              </a:rPr>
              <a:t>12</a:t>
            </a:r>
            <a:r>
              <a:rPr b="0" lang="zh-CN" sz="4800" spc="-1" strike="noStrike">
                <a:solidFill>
                  <a:srgbClr val="b2b2b2"/>
                </a:solidFill>
                <a:latin typeface="굴림"/>
              </a:rPr>
              <a:t>장 중도 중복장애아 교육</a:t>
            </a:r>
            <a:endParaRPr b="0" lang="en-US" sz="48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도 중복장애아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에 제시 없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업재활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증장애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중 근로능력이 현저하게 상실된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사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신장애의 정도가 무겁고 또한 장애가 두 가지 혹은 그 이상 중복해 있는 경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중도 중복장애의 정의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미국의 중증장애인협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통합된 지역사회에 참여하고 장애와 관계없이 모든 시민들이 누릴 수 있는 질적인 삶을 즐기기 위한 한 가지 이상의 주요 활동에 있어서 확장적이고 지속적인 지원을 필요로 하는 개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정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 정도가 심하거나 두 가지 이상 중복된 경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IQ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와 적응행동에 현저한 결함이 있어 학습에 확장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속적 지원을 필요로 하는 아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본인과 가족에게 거부감을 줄 수 있음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학습지도 방법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팀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간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학문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과제분석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개별 및 그룹 지도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매체 활용과 재활공학 기구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의적 접근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합환경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평가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유의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 조건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의 순서 파악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한 변화에 대처하는 미시적 관점의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밀한 관찰과 기록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다면적이고 종합적인 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가의 문제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행연구보다는 교사의 관찰과 노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장애의 유형과 정도 다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발달수준의 복잡성과 다양성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록에 의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세 발달의 평가 한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차후 교육을 위한 평가로 활용되어야 함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질문을 위한 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b2b2b2"/>
                </a:solidFill>
                <a:latin typeface="굴림"/>
              </a:rPr>
              <a:t>초의 인내</a:t>
            </a:r>
            <a:r>
              <a:rPr b="0" lang="en-US" sz="4400" spc="-1" strike="noStrike">
                <a:solidFill>
                  <a:srgbClr val="b2b2b2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b2b2b2"/>
              </a:solidFill>
              <a:latin typeface="굴림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619280" y="1700280"/>
            <a:ext cx="590544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9T01:32:17Z</dcterms:created>
  <dc:creator>.</dc:creator>
  <dc:description/>
  <dc:language>en-US</dc:language>
  <cp:lastModifiedBy>f</cp:lastModifiedBy>
  <dcterms:modified xsi:type="dcterms:W3CDTF">2007-05-17T01:49:17Z</dcterms:modified>
  <cp:revision>7</cp:revision>
  <dc:subject/>
  <dc:title>제 12장 개별 사정과 교육계획</dc:title>
</cp:coreProperties>
</file>