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D4C5-E67F-40BD-A1AC-B56EAAD0A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8168-AFE4-4CDA-847C-B8A15859C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539BA-6D2A-46E4-93B0-2344269E9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1A452-94F1-45F0-8472-95BDC4FE2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D8BE-5F0C-4305-9C3F-4B708FC40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BC4D3-A281-49B1-894D-1BB0A05CD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846C7-1276-4EFE-80AA-0532BF0E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3C9C7-52CF-41B7-A9C3-6FF6B3D81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F8FB8-B50C-4080-A508-B09BD1147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8CA14-9957-4649-8B97-DFA6E919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B0D63-53CC-4F1D-9862-0EFCCA981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5987-5DB6-401F-BB58-274882B4A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A638-744F-44C0-BF8C-BB832DC4B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30BC6-1CD0-45E2-9E0E-CBC78E6E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AC862-D6F3-469E-9026-41E49F1D2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DE16-ABCE-4A99-B315-07A41CFD1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EA645-E908-4147-B972-8CFC8D92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1A8-F140-4D02-B7E2-E8D0CC178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9DBA-D8D1-477B-B6A3-5B7D5B75FB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CDC7F-E81C-457D-B7D3-AA13DAD17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6D47F-C370-4474-B152-4369F018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C3929-81A2-49C6-9CC1-57E50FDCC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FC31-30FE-46B8-B729-7E3D74842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89A-AC45-4CF3-959A-467AF2574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BB88-F095-4CDA-AF3D-4126EC0C86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07D2B-0A19-4B00-B0E6-04D5660C280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5</a:t>
            </a: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장 학습장애아 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1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개요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2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념과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10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교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1.7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통 이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환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low achievemen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지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IQ 85-70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반복 학습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slow learner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정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e5ffff"/>
                </a:solidFill>
                <a:latin typeface="굴림"/>
              </a:rPr>
              <a:t>원인 및 출현율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추신경계의 이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좌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선형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계적과 체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논리적과 계획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언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청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실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우반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종합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무선적과 비형식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직관적과 우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공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시각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상 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두뇌의 미세 기능 장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차이이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인지적 결함의 오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원인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반적인 원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정보처리의 한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환경적인 영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출현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특수아동 출현율 중 가장 높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학습장애의 분류 및 특성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68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의 유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분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정학습장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쓰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말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듣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셈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80%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 읽기 장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동적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 특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진단 평가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2296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특수교육진흥법에서는 학습장애를 진단 평가하는 도구로는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2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초학습기능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3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학습준비도 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4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지각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5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각운동발달검사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, 6)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시각운동통합발달검사 등을 제시하였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진정한 평가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수행평가와 교육과정중심평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Authentic Assessment: ‘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실제’의 생활에서 읽고 쓰는 능력을 가장 밀접하게 사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지속적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수학습에 정보를 제공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과정에 통합되어져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발달에 있어서 적절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자아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평가를 인식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활동적인 협동학습이 가능해야 한다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참고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: Fuuntas &amp; Pinnell, 2001, p.484)  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교육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습의 필수조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주의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중재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기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동기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효과적인 교수활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읽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쓰기에 대한 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난독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생각하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e5ffff"/>
                </a:solidFill>
                <a:latin typeface="굴림"/>
              </a:rPr>
              <a:t>질문하세요</a:t>
            </a:r>
            <a:r>
              <a:rPr b="0" lang="en-US" sz="4400" spc="-1" strike="noStrike">
                <a:solidFill>
                  <a:srgbClr val="e5ffff"/>
                </a:solidFill>
                <a:latin typeface="굴림"/>
              </a:rPr>
              <a:t>!</a:t>
            </a:r>
            <a:endParaRPr b="0" lang="en-US" sz="4400" spc="-1" strike="noStrike">
              <a:solidFill>
                <a:srgbClr val="e5ffff"/>
              </a:solidFill>
              <a:latin typeface="굴림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2484360" y="1916280"/>
            <a:ext cx="4175280" cy="41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9T03:52:24Z</dcterms:created>
  <dc:creator>.</dc:creator>
  <dc:description/>
  <dc:language>en-US</dc:language>
  <cp:lastModifiedBy>f</cp:lastModifiedBy>
  <dcterms:modified xsi:type="dcterms:W3CDTF">2007-04-05T02:46:59Z</dcterms:modified>
  <cp:revision>8</cp:revision>
  <dc:subject/>
  <dc:title>제 5장 과학교육과정</dc:title>
</cp:coreProperties>
</file>