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243D0-3283-4227-9828-C9EE6A62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D23F-55A5-47AE-A723-953103542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F69BF-54DD-41AF-BAE0-86D9707268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AC23-9157-4BAA-8152-4CB8BFF88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166D4-8BA4-420B-88B8-6B3274FF3B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05E4-950A-43B4-8EF5-4E724F6A9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731F1-65E2-4F58-BBC5-E96C9F16F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CAA2-5838-4F2E-83A3-2F97878CC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4F792-9BF9-4903-930F-F0E4FD776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038CE-B2D7-4C82-91E8-8DF79019C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61112-88D7-4C78-8398-863E805D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8721-E922-4EB5-B655-6DA4B0A4D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93B6C-6A55-43DE-9CE9-FD1C29D46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7C2D0-6C9C-431E-BC55-264A39E66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E80EF-53B2-4778-BD6D-FF8496C75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2E2A3-BED0-4F36-B3D9-088C8816E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E0F9A-7073-4A39-A5A4-1A5A83C683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C6A7-6F65-4BC4-95C8-09155F63DB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3CA4-4816-4C95-868D-0EBC6AB28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42EA-71E6-4E04-A3CF-1E685C08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BC3A-EC7F-4E2A-9A27-A88C71A0D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5DCE-C971-47CB-90F2-0B43190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406E4-7237-4ED0-B2B5-CD80DB090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3626-24D7-4D46-B611-977FCB8AF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C53CB-CCCD-4070-A48E-39B8C73289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16630-8642-4C0E-93E6-D9AEE3CB8A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1267920"/>
            <a:ext cx="777240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dbbd71"/>
                </a:solidFill>
                <a:latin typeface="굴림"/>
              </a:rPr>
              <a:t>10</a:t>
            </a: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장 의사소통장애아 교육</a:t>
            </a:r>
            <a:r>
              <a:rPr b="0" lang="en-US" sz="5400" spc="-1" strike="noStrike">
                <a:solidFill>
                  <a:srgbClr val="dbbd71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기초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호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아이디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속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삶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기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공명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두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순강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준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어 기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미의 전달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초분절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말의 주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음성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비언어적 특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몸짓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얼굴표정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언어의 구성요소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form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content)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us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통사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hon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음 체계의 규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분절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형태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morphology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독립과 종속 형태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구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yntax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어휘의 배열 규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미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semantic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물의 관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건 사이의 관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화용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agmatics)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의 사용 규칙과 방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의사소통 장애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발성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음 및 음운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창성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언어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완대체 의사소통 체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Bliss Symbo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사소통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bbd71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dbbd71"/>
              </a:solidFill>
              <a:latin typeface="굴림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692360" y="1700280"/>
            <a:ext cx="56880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20:36:39Z</dcterms:created>
  <dc:creator>.</dc:creator>
  <dc:description/>
  <dc:language>en-US</dc:language>
  <cp:lastModifiedBy>f</cp:lastModifiedBy>
  <dcterms:modified xsi:type="dcterms:W3CDTF">2007-05-17T01:21:41Z</dcterms:modified>
  <cp:revision>25</cp:revision>
  <dc:subject/>
  <dc:title>제 10장 중복장애 </dc:title>
</cp:coreProperties>
</file>