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0E6D-DCCA-457F-B8BE-4E1BB31B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59F9-1BEA-4444-B5B7-46D799B39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40312-F236-4BB6-985C-EE5D51FAB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D6836-2DCA-4E5E-9FCA-688083FFA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8757C-CA4A-4363-A5EC-222B7E36D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F5EA-192C-4A78-9C5F-3E146F1E5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4DA9-E469-4115-BA43-E86AEA0FE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0BD8F-773C-486C-89D5-D87239C8E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F659-DA46-44B4-BA67-FCF13CEFA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67DA10-C757-4AC3-96DE-ECF73042C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AB73-4F8A-4892-A90E-CD902BE82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FCB8E-7814-49BF-AF61-A14AE7030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9F39-2298-42EB-B60A-D6E13355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910BA-5F98-43E8-9326-32707469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CD9E7-F0B4-4D63-A300-58C6120E67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6626D-9FEA-452A-ABB3-8271C1618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8815-51F1-43DC-8F26-AC45EF95E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D7651-3D44-40EA-89F6-5CE0A7147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81EB-4972-4995-91A6-17A68CE74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3CFEF-5FDE-4E59-9EC5-AFD0F8326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93208-E219-42E6-9307-987B5F795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48E6C-5F35-4A9A-B370-D2DDAB8F5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48B8C-E9CF-448A-B91C-EFBC0D91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0A4-76BD-4BD3-9E65-389CA9456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A4B6-EB99-4FE0-981B-7A045C212CA0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DF4B-2475-4471-AF87-D2D9C71AA897}" type="slidenum"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4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정신지체아 교육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199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평균 이하의 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적응기술능력에서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2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가지 이상의 적응적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AAMR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기능의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적응기술에서 상당한 제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세 이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200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년 정의의 이론적 모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능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능력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개념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II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 역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IV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신체적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 건강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원인론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차원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V  :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주변 상황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환경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문화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기회</a:t>
            </a:r>
            <a:r>
              <a:rPr b="0" lang="ko-KR" sz="2000" spc="-1" strike="noStrike">
                <a:solidFill>
                  <a:srgbClr val="000000"/>
                </a:solidFill>
                <a:latin typeface="굴림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신지체의 개념 및 정의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199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과 </a:t>
            </a:r>
            <a:r>
              <a:rPr b="0" lang="en-US" sz="4800" spc="-1" strike="noStrike">
                <a:solidFill>
                  <a:srgbClr val="a3007c"/>
                </a:solidFill>
                <a:latin typeface="굴림"/>
                <a:ea typeface="굴림"/>
              </a:rPr>
              <a:t>2002</a:t>
            </a: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년 정의 비교 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유지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정신지체 용어 계속 사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기능적 차원과 지원 강조는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의 세 가지 준거인 지능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연령은 동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의 강도는 동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  <a:ea typeface="굴림"/>
              </a:rPr>
              <a:t>개선한 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적 요소에 표준편차 개념 삽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참여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상호작용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그리고 사회적 역할을 새로이 추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적응행동을 개념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사회적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실질적 기술로 표현한 것을 다면적 요소를 지닌 적용행동을 요인분석하고 개념화 하였다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을 사정하고 지원의 강도를 결정하기 위해 최근 연구결과 참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진단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분류</a:t>
            </a:r>
            <a:r>
              <a:rPr b="0" lang="en-US" sz="20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2000" spc="-1" strike="noStrike">
                <a:solidFill>
                  <a:srgbClr val="000000"/>
                </a:solidFill>
                <a:latin typeface="굴림"/>
                <a:ea typeface="굴림"/>
              </a:rPr>
              <a:t>지원계획의 체계를 확장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굴림"/>
                <a:ea typeface="굴림"/>
              </a:rPr>
              <a:t>정신지체 정의에 대하여 고려할 점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1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의의 확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념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실질적 지능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회적 지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2) IQ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경계 점수를 낮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IQ 70-7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3)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정신지체는 더욱 좋아질 수도 있고 영구적이지 않을 수 있다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환경과 지원의 정도 차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정상분포 곡선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286840" cy="45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  <a:ea typeface="굴림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393840" y="673200"/>
            <a:ext cx="84978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분류 및 특성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법적 분류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1, 2, 3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원의 정도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간헐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필요와 단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한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정해진 기간 동안 일관된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광범위한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몇 환경에서 시간 제한 없는 정기적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예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매일의 장기적인 가정 생활 지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전반적인 지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생애 전반에 걸쳐 모든 환경에서의 강도 높은 지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3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지적 기능과 적응 기능의 수준에 따른 분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경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등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-560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최중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60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2. 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진단 평가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웩슬러 이동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ISC-II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성과 동작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전체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요인분석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언어적 이해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각적 조직화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주의집중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산만성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처리속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 K-AB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만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-12.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인지처리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능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습득도 척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성취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로 구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하위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순차처리와 동시처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 유아용 웩슬러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-WPPS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국립특수교육원 한국형 개인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ISE-KI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한국판 그림 지능검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KPT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 성숙도 검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1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개의 문항으로 난이도 순서로 배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 일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식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조용의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동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작업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사소통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자기관리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사회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교육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목적 및 목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교육내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특수학교 기본교육과정의 기본적인 특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기능적 교육과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화용론에 관점을 둔 교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성교육에 관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굴림"/>
              </a:rPr>
              <a:t>퍼지이론과 진단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4:00:23Z</dcterms:modified>
  <cp:revision>13</cp:revision>
  <dc:subject/>
  <dc:title>제 1장 교육과정과 교수학습</dc:title>
</cp:coreProperties>
</file>