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FDEA-F7F2-462A-8CC7-270DE2156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C2AC-3FD9-4743-98E1-E94873C1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EC9A-066E-4E19-87C2-135A81537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C687-5D49-49D1-82FE-076AB74BF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1303D-9D65-4891-BEF2-2864088FD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038348-5F3C-4164-A083-C673A5338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EA346-5973-4529-8B42-01F152602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632F8-53BD-4359-8104-E4D797EE0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B9F20-D0E9-45DC-822B-F1907A75F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3F717-D8F0-417D-B3CA-5DEFE7FF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63721-9B23-42D8-B372-ED5D24205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BADCB-70D1-46C3-8B45-AF036F808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A22F2-E9F7-427F-A43B-75A7170FC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4E754-2071-4F96-8FDC-E0F510861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F11-9058-4B57-BED1-775EE483C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58A29-A91B-4C60-BDB2-AED56902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6888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05040" y="10969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330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6888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05040" y="36396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E027B-EDF7-408B-B589-073AB5387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437D-F846-4926-8C00-B68912A64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C28B-20F3-4B19-9C94-77C70BF19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26E9-DB35-4D9A-BF3E-454D7D43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2880" y="266760"/>
            <a:ext cx="868392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36ADC-FF4B-4325-AE67-5CA2818F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D7B2-83EB-4D73-8830-93A6E1023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83040" y="36396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134FD-48DD-4778-B128-F67A4D433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83040" y="10969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3080" y="36396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AF31-7AAF-49B0-8C5D-4BF0D654F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78546-6B97-454A-83E1-369913E325BA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65040" y="2620800"/>
            <a:ext cx="85917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e2d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666720" y="3692160"/>
            <a:ext cx="7677360" cy="5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E7E5-B47E-4D9B-AA3D-909090EA994F}" type="slidenum">
              <a:rPr b="0" lang="ko-KR" sz="2400" spc="-1" strike="noStrike">
                <a:solidFill>
                  <a:srgbClr val="6e2d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e2d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e2d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6e2d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6e2d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6e2d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e2d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440" y="1266840"/>
            <a:ext cx="776916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제 </a:t>
            </a:r>
            <a:r>
              <a:rPr b="0" lang="en-US" sz="5600" spc="-1" strike="noStrike">
                <a:solidFill>
                  <a:srgbClr val="6e2d00"/>
                </a:solidFill>
                <a:latin typeface="굴림"/>
                <a:ea typeface="굴림"/>
              </a:rPr>
              <a:t>14</a:t>
            </a: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 </a:t>
            </a:r>
            <a:br>
              <a:rPr sz="5600"/>
            </a:br>
            <a:r>
              <a:rPr b="0" lang="zh-CN" sz="5600" spc="-1" strike="noStrike">
                <a:solidFill>
                  <a:srgbClr val="6e2d00"/>
                </a:solidFill>
                <a:latin typeface="굴림"/>
                <a:ea typeface="굴림"/>
              </a:rPr>
              <a:t>장애학생의 전환교육</a:t>
            </a:r>
            <a:endParaRPr b="0" lang="en-US" sz="56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240" y="3884760"/>
            <a:ext cx="6397560" cy="17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대구대학교 초등특수교육과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6e2d00"/>
                </a:solidFill>
                <a:latin typeface="굴림"/>
                <a:ea typeface="굴림"/>
              </a:rPr>
              <a:t>최성규 교수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e2d00"/>
                </a:solidFill>
                <a:latin typeface="굴림"/>
                <a:ea typeface="굴림"/>
              </a:rPr>
              <a:t>개요</a:t>
            </a:r>
            <a:endParaRPr b="0" lang="en-US" sz="44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삶의 질 </a:t>
            </a:r>
            <a:r>
              <a:rPr b="0" lang="en-US" sz="3400" spc="-1" strike="noStrike">
                <a:solidFill>
                  <a:srgbClr val="6e2d00"/>
                </a:solidFill>
                <a:latin typeface="굴림"/>
                <a:ea typeface="굴림"/>
              </a:rPr>
              <a:t>(Quality of Life)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다양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6e2d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400" spc="-1" strike="noStrike">
                <a:solidFill>
                  <a:srgbClr val="6e2d00"/>
                </a:solidFill>
                <a:latin typeface="굴림"/>
                <a:ea typeface="굴림"/>
              </a:rPr>
              <a:t>선택의 특수성과 일반성</a:t>
            </a:r>
            <a:endParaRPr b="0" lang="en-US" sz="3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1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정의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생 개인의 필요와 요구에 따라 학교 졸업 후에 도달할 목표중심의 교육과정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그 목적은 학교 졸업 후에 지역사회에서 직업훈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통합된 취업활동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주거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지역사회생활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여가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평생교육 등의 수월성 보장에 있다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School-to-Work: STW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상위 학교의 진학도 전환교육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교교육을 받는 장애학생에게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EP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요구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유치원부터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2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학년까지의 모든 학생 대상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특히 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 이상의 아동을 위한 전환교육계획이 포함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Individualized Transition Program (ITP): 14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될 때 시작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16</a:t>
            </a:r>
            <a:r>
              <a:rPr b="0" lang="zh-CN" sz="2800" spc="-1" strike="noStrike">
                <a:solidFill>
                  <a:srgbClr val="6e2d00"/>
                </a:solidFill>
                <a:latin typeface="Arial"/>
                <a:ea typeface="굴림"/>
              </a:rPr>
              <a:t>세가 되면 전환교육에 포함되어 있어야 함</a:t>
            </a:r>
            <a:r>
              <a:rPr b="0" lang="en-US" sz="2800" spc="-1" strike="noStrike">
                <a:solidFill>
                  <a:srgbClr val="6e2d00"/>
                </a:solidFill>
                <a:latin typeface="Arial"/>
                <a:ea typeface="굴림"/>
              </a:rPr>
              <a:t>.  </a:t>
            </a:r>
            <a:endParaRPr b="0" lang="en-US" sz="28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2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전환교육의 실제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자기결정기술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전환교육 프로그램에 학생의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생태적 접근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환경의 중요성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별화된 계획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- McGill Action Plan (MAP)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의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단계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6e2d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개인에 대한 내력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꿈과 희망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두려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나는 누구인가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필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      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우선순위 선정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4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지역사회 경험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;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업과 함께 종교와 문화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여가활동 등 포함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5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서비스 조정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: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직장 </a:t>
            </a: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Pool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제 운영 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6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가족 참여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e2d00"/>
                </a:solidFill>
                <a:latin typeface="Arial"/>
                <a:ea typeface="굴림"/>
              </a:rPr>
              <a:t>7) </a:t>
            </a:r>
            <a:r>
              <a:rPr b="0" lang="zh-CN" sz="2400" spc="-1" strike="noStrike">
                <a:solidFill>
                  <a:srgbClr val="6e2d00"/>
                </a:solidFill>
                <a:latin typeface="Arial"/>
                <a:ea typeface="굴림"/>
              </a:rPr>
              <a:t>학교와 사업체 협력</a:t>
            </a: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3. 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제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7</a:t>
            </a: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차 교육과정의 직업전환교육 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3080" y="10969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기본교육과정에서의 직업과의 성격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6e2d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국민공통기본교육과정에서의 장애학생을 위한 직업교과목에 대한 선택교육과정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-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공예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포장 조립 운반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농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전자조립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제과 제빵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정보처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상업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, 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이료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(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시각장애학생 중심</a:t>
            </a:r>
            <a:r>
              <a:rPr b="0" lang="ko-KR" sz="3200" spc="-1" strike="noStrike">
                <a:solidFill>
                  <a:srgbClr val="6e2d00"/>
                </a:solidFill>
                <a:latin typeface="Arial"/>
                <a:ea typeface="굴림"/>
              </a:rPr>
              <a:t>)</a:t>
            </a:r>
            <a:endParaRPr b="0" lang="en-US" sz="3200" spc="-1" strike="noStrike">
              <a:solidFill>
                <a:srgbClr val="6e2d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72880" y="266760"/>
            <a:ext cx="86839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6e2d00"/>
                </a:solidFill>
                <a:latin typeface="Arial"/>
                <a:ea typeface="굴림"/>
              </a:rPr>
              <a:t>질문에 답변할 시간을 주어라</a:t>
            </a:r>
            <a:r>
              <a:rPr b="0" lang="en-US" sz="4000" spc="-1" strike="noStrike">
                <a:solidFill>
                  <a:srgbClr val="6e2d00"/>
                </a:solidFill>
                <a:latin typeface="Arial"/>
                <a:ea typeface="굴림"/>
              </a:rPr>
              <a:t>!</a:t>
            </a:r>
            <a:endParaRPr b="0" lang="en-US" sz="4000" spc="-1" strike="noStrike">
              <a:solidFill>
                <a:srgbClr val="6e2d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338560" y="1627200"/>
            <a:ext cx="43923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30T20:27:11Z</dcterms:created>
  <dc:creator/>
  <dc:description/>
  <dc:language>en-US</dc:language>
  <cp:lastModifiedBy>f</cp:lastModifiedBy>
  <dcterms:modified xsi:type="dcterms:W3CDTF">2007-05-28T01:15:38Z</dcterms:modified>
  <cp:revision>6</cp:revision>
  <dc:subject/>
  <dc:title>제 14장 인지전략</dc:title>
</cp:coreProperties>
</file>