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B346-EDA1-41A7-B02D-4EBE8B61E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1A4FC-98F3-497A-A1A9-1E4AAED0C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9D83-DE94-45BB-8B13-8C6F547A9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232E-4D8B-4E62-B330-E734EAC16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9ABF-DCA0-4A01-892F-A70D9D3E0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78A5D-114A-4A21-9D60-959CB82F4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7CA2D-71FE-4DAC-A1CB-DDE797ED3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18488-2595-4319-83CF-B89BE47B1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39BF3-3EB0-43E1-B065-E9693273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9CC23-55EF-444F-B8BC-ABA6192D3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3024C7-A8EE-4934-9B4E-91F8389F4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05DD-4484-4260-8878-E81A3AB20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F6E12-7FAB-470C-A2A0-7ECDCB93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7801-B0A2-4B02-BC59-F92A925BA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E6AA3-FD11-40F7-8D17-D9076BC94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F5812-3C62-4992-8B3B-CE4683C0F5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9989-D86A-4F9F-9622-E5A451D65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9A596-77F9-4C64-BD20-1F7BBAF5E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F380-B049-4818-9756-DBB2A49E2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B9CFF-5699-4DB0-A4DD-4EB1DD695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20A7-D737-44F9-9B56-B979DB39D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C023-F99C-4B0F-845F-21B1EF1E1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0501-2841-47F9-B7BF-69797FC21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BCDE7-3AEB-491F-970E-E41841640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BD8FA-F466-4FC5-A736-ADC10C6A6C5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59B79-69C1-4682-865F-EDD0147A70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68320"/>
            <a:ext cx="7772400" cy="108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제 </a:t>
            </a:r>
            <a:r>
              <a:rPr b="0" lang="en-US" sz="5400" spc="-1" strike="noStrike">
                <a:solidFill>
                  <a:srgbClr val="ffffcc"/>
                </a:solidFill>
                <a:latin typeface="굴림"/>
              </a:rPr>
              <a:t>8</a:t>
            </a:r>
            <a:r>
              <a:rPr b="0" lang="zh-CN" sz="5400" spc="-1" strike="noStrike">
                <a:solidFill>
                  <a:srgbClr val="ffffcc"/>
                </a:solidFill>
                <a:latin typeface="굴림"/>
              </a:rPr>
              <a:t>장 시각장애아 교육</a:t>
            </a:r>
            <a:endParaRPr b="0" lang="en-US" sz="5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법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각각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만인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력의 손상이 심하여 시각에 의해 학습과제를 수행할 수 없고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촉각이나 청각을 학습의 주요 수단으로 사용하는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두 눈의 교정시력이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0.04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이상이나 특정의 학습매체 또는 과제의 수정을 통해서도 시각적 과제수행이 어려운 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특정의 광학기구 학습매체 또는 설비를 통하여서만 시각적 과제수행을 할 수 있는 자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맹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점자나 촉각 및 청각매체를 통해서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저시력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잔존시력을 활용하여 문자를 확대하거나 광학적인 기구를 사용하여 교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기타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손상 시기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시각 표상의 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) 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성과 후천성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3-5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 또는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세를 기준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선천맹과 후천맹으로 구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눈의 구조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중추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누기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결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안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홍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양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맥락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막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내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방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정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리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망막과 시각중추를 이어주는 시신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로는 시신경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신경교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색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외측슬상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방성 등으로 구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빛에 대한 반응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막 – 동공 – 홍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빛의 양 조절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정체 – 유리체 – 망막 – 시신경과 시신경 교차 – 외측슬상체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–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시방선 – 두뇌의 피질에 도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ffcc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안질환 외 다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출현율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0.03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나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- 0.07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굴림"/>
              </a:rPr>
              <a:t>언어지도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의미보다는 언어 자체를 즐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다양한 음성적 표현의 부족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큰 말소리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말의 속도가 느림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몸짓이나 입술 움직임이 적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점자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듣기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저시력학생의 읽기 지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Vygotsky</a:t>
            </a:r>
            <a:r>
              <a:rPr b="1" lang="ko-KR" sz="4400" spc="-1" strike="noStrike">
                <a:solidFill>
                  <a:srgbClr val="ffff00"/>
                </a:solidFill>
                <a:latin typeface="굴림"/>
              </a:rPr>
              <a:t>의 교육에 대한 시각</a:t>
            </a:r>
            <a:endParaRPr b="0" lang="en-US" sz="4400" spc="-1" strike="noStrike">
              <a:solidFill>
                <a:srgbClr val="ffffcc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교사는 모든 것을 가지고 있으나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아동은 가진 것이 전혀 없는 잘못된 원칙에 의존하는 수업의 결과에서 나타난 아동의 수동성은 과학적 사고의 시각에서 엄청난 죄악이다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 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“</a:t>
            </a: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... passivity of the student is the greatest sin from a scientific point of view, since it relies on the false principle that the teacher is everything and the pupil nothing.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: Bozhovich and Slavina 1972, p.165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cc"/>
                </a:solidFill>
                <a:latin typeface="굴림"/>
              </a:rPr>
              <a:t>Any questions?</a:t>
            </a:r>
            <a:endParaRPr b="0" lang="en-US" sz="6000" spc="-1" strike="noStrike">
              <a:solidFill>
                <a:srgbClr val="ffffcc"/>
              </a:solidFill>
              <a:latin typeface="굴림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2124000" y="1844640"/>
            <a:ext cx="4896000" cy="424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1T03:28:55Z</dcterms:created>
  <dc:creator>.</dc:creator>
  <dc:description/>
  <dc:language>en-US</dc:language>
  <cp:lastModifiedBy>f</cp:lastModifiedBy>
  <dcterms:modified xsi:type="dcterms:W3CDTF">2007-05-15T06:52:01Z</dcterms:modified>
  <cp:revision>17</cp:revision>
  <dc:subject/>
  <dc:title>제 8장 순회교육</dc:title>
</cp:coreProperties>
</file>