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0825" cy="6854825"/>
  <p:notesSz cx="6854825" cy="9140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9A62-9DEA-4346-93D9-3FB9CD7B1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EC0CA-140E-47B8-9F7F-3373104C1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2357-B086-49DF-BD14-1767BBC2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335D1-59A0-4F18-BA8D-963E6BCF6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6A21-E93E-486E-B5BE-04262EE26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E9D8A-04F3-48CE-BF9E-021B07A8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6C1EF-B3BA-4ABF-8347-A7C5BB06E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CFADF-2771-40FD-B514-1BFA5229FE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5F966-4C34-4ED4-85B6-439EE2292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F95E6-D596-4300-96EF-4BF61938D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82A7F-72B3-4503-9D8D-FA37CBE6F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B8E10-E5C5-4070-9FCA-5AB64F977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31B82-FFCC-4C11-8655-65CCAA84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BC459-DE2E-4E2C-A16D-BC6072E14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927CC-2EA6-48B5-8C00-01BE86BED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7A22E-59A7-4D10-BD80-5E157743A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2280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58960" y="104472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70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2280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58960" y="3587400"/>
            <a:ext cx="27957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17E0-F8A7-48EF-AE0D-42EB5E8E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1488-6E05-4CDF-84AD-89C4F5CB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26E7A-FB8F-46AC-BBF0-C9F74BD7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33F3-91A2-4197-A0AD-B6E30E8D3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64680" y="95040"/>
            <a:ext cx="8683560" cy="319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B135D-2411-4959-B62B-644227B2FF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8B9B8-3125-4EC8-94B4-520C5468E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6960" y="358740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9968A-8C17-4D25-82B3-6DFF5E001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6960" y="1044720"/>
            <a:ext cx="4237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7000" y="3587400"/>
            <a:ext cx="8683560" cy="232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5BA4-6808-4DBB-A64E-E614E2554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825E5-2215-4811-838F-1CAC8C0B2E1E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6800" y="2895480"/>
            <a:ext cx="859284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3007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hdr"/>
          </p:nvPr>
        </p:nvSpPr>
        <p:spPr>
          <a:xfrm>
            <a:off x="711000" y="4124160"/>
            <a:ext cx="7677000" cy="5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Master Text Style 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63840" y="6012000"/>
            <a:ext cx="3843360" cy="4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49280" indent="-449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굴림"/>
              </a:rPr>
              <a:t>&lt;*CompanyName*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90000" y="6477120"/>
            <a:ext cx="2011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2330280" y="6477120"/>
            <a:ext cx="443232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990840" y="6477120"/>
            <a:ext cx="2057400" cy="3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defRPr>
            </a:lvl1pPr>
          </a:lstStyle>
          <a:p>
            <a:pPr marL="44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7E836-8468-4BE8-A7AD-3A30E9977DD3}" type="slidenum">
              <a:rPr b="0" lang="ko-KR" sz="2400" spc="-1" strike="noStrike">
                <a:solidFill>
                  <a:srgbClr val="000000"/>
                </a:solidFill>
                <a:latin typeface="Times New Roman"/>
                <a:ea typeface="굴림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6800" y="68040"/>
            <a:ext cx="868356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body"/>
          </p:nvPr>
        </p:nvSpPr>
        <p:spPr>
          <a:xfrm>
            <a:off x="456840" y="1603800"/>
            <a:ext cx="822600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49120" y="2418840"/>
            <a:ext cx="85932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제 </a:t>
            </a:r>
            <a:r>
              <a:rPr b="0" lang="en-US" sz="4400" spc="-1" strike="noStrike">
                <a:solidFill>
                  <a:srgbClr val="a3007c"/>
                </a:solidFill>
                <a:latin typeface="굴림"/>
                <a:ea typeface="굴림"/>
              </a:rPr>
              <a:t>1</a:t>
            </a: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장 특수교육학의 </a:t>
            </a:r>
            <a:br>
              <a:rPr sz="4400"/>
            </a:br>
            <a:r>
              <a:rPr b="0" lang="zh-CN" sz="4400" spc="-1" strike="noStrike">
                <a:solidFill>
                  <a:srgbClr val="a3007c"/>
                </a:solidFill>
                <a:latin typeface="굴림"/>
                <a:ea typeface="굴림"/>
              </a:rPr>
              <a:t>개요와 발전과제</a:t>
            </a:r>
            <a:endParaRPr b="0" lang="en-US" sz="44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11000" y="4362480"/>
            <a:ext cx="76770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대구대학교 초등특수교육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굴림"/>
                <a:ea typeface="굴림"/>
              </a:rPr>
              <a:t>최성규 교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66560" y="1339920"/>
            <a:ext cx="8226720" cy="5170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이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목표와 목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의 대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시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청각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신지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지체부자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정서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언어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학습장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  <a:ea typeface="굴림"/>
              </a:rPr>
              <a:t>특수교육 대상자 출현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636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개념과 과정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기관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조기 특수교육 기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학습 도움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기숙제 학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병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  <a:ea typeface="굴림"/>
              </a:rPr>
              <a:t>가정 및 복지시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49280" indent="0" algn="ctr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a3007c"/>
                </a:solidFill>
                <a:latin typeface="굴림"/>
                <a:ea typeface="굴림"/>
              </a:rPr>
              <a:t>특수교육 과정</a:t>
            </a:r>
            <a:endParaRPr b="0" lang="en-US" sz="48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특수아동 찾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선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사정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assess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개별화 교육계획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(Individualized Education Plan: IE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배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교수 학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49280" indent="-449280">
              <a:lnSpc>
                <a:spcPct val="110000"/>
              </a:lnSpc>
              <a:buClr>
                <a:srgbClr val="000000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수행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  <a:ea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  <a:ea typeface="굴림"/>
              </a:rPr>
              <a:t>형성 및 총괄 평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서양의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고대와 중세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에 대한 편견의 시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근세 초기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장애인의 보호와 교육의 시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 –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특수아를 위한 학교 교육의 성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청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프랑스 파리 농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76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의 세계 최초의 공립 농학교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7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Braidwoo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가 농교육에 기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미국의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Gallaudet: 1815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미국에 최초의 농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시각장애교육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계 최초의 시각장애학교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: 1784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파리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영국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79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독일에는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06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정신지체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Itard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의 공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 Seguin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이 미국에서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Howe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와 협력하여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84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에 정신지체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지체부자유 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+ 18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후반 정형외과학의 발달과 관련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; 1832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독일에서 지체부자유 학교 설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2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세기 특수교육의 질적 변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한국의  특수교육 역사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삼국시대에서 조선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빈민규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고려 숙종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복업과 궁중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조선시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명통사에서 경문 집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개화기 및 일제시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유길준의 서유견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서양식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근대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특수교육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: R. S. Hall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여사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894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제생원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12):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교육과 수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박두성의 훈맹정음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(192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5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이창호 목사에 의한 평양 광명 맹아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맹인 손용수는 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38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에 원산 맹학교 설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해방이후부터 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7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서울맹아학교 교장 윤백원에 의해 한글 지문자 제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1949</a:t>
            </a:r>
            <a:r>
              <a:rPr b="0" lang="ko-KR" sz="2400" spc="-1" strike="noStrike">
                <a:solidFill>
                  <a:srgbClr val="000000"/>
                </a:solidFill>
                <a:latin typeface="Arial"/>
                <a:ea typeface="굴림"/>
              </a:rPr>
              <a:t>년 특수학교 설립과 특수학급 설치에 관한 규정 공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77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 특수교육진흥법 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(1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회 개정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1980</a:t>
            </a:r>
            <a:r>
              <a:rPr b="0" lang="ko-KR" sz="2000" spc="-1" strike="noStrike">
                <a:solidFill>
                  <a:srgbClr val="000000"/>
                </a:solidFill>
                <a:latin typeface="Arial"/>
                <a:ea typeface="굴림"/>
              </a:rPr>
              <a:t>년대 이후의 특수교육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a3007c"/>
                </a:solidFill>
                <a:latin typeface="Arial"/>
                <a:ea typeface="굴림"/>
              </a:rPr>
              <a:t>특수교육의 최근 동향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7000" y="1044720"/>
            <a:ext cx="8683560" cy="486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정상화 원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교수의 개별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조기교육과 전환교육의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부모의 권익 강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굴림"/>
              </a:rPr>
              <a:t>중도 중복장애 교육의 강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4680" y="95040"/>
            <a:ext cx="8683560" cy="68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a3007c"/>
                </a:solidFill>
                <a:latin typeface="Arial"/>
                <a:ea typeface="굴림"/>
              </a:rPr>
              <a:t>질문할 시간입니다</a:t>
            </a:r>
            <a:r>
              <a:rPr b="0" lang="en-US" sz="4000" spc="-1" strike="noStrike">
                <a:solidFill>
                  <a:srgbClr val="a3007c"/>
                </a:solidFill>
                <a:latin typeface="Arial"/>
                <a:ea typeface="굴림"/>
              </a:rPr>
              <a:t>.</a:t>
            </a:r>
            <a:endParaRPr b="0" lang="en-US" sz="4000" spc="-1" strike="noStrike">
              <a:solidFill>
                <a:srgbClr val="a3007c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2049480" y="1195560"/>
            <a:ext cx="561672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18T03:17:31Z</dcterms:created>
  <dc:creator/>
  <dc:description/>
  <dc:language>en-US</dc:language>
  <cp:lastModifiedBy>f</cp:lastModifiedBy>
  <dcterms:modified xsi:type="dcterms:W3CDTF">2007-04-05T02:32:51Z</dcterms:modified>
  <cp:revision>10</cp:revision>
  <dc:subject/>
  <dc:title>제 1장 교육과정과 교수학습</dc:title>
</cp:coreProperties>
</file>