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DBA9-5734-4D9C-AA2D-902406381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5027-7457-49D9-A55D-7FD50AC85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661B-66A5-4377-967A-08E615E1A7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1B7A-E8C0-4F48-ACC0-AD09C9CB7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6A492-ECCE-41A1-A2A0-1B4D903E2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1C7D1-0581-4856-B37C-D4CBEE493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6E84D-A8AC-4C45-83CC-39534F27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0353-B32B-4FFC-8BF5-1138929F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592A-CE55-4D80-9687-1A960C02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3211-6398-49E1-8835-B33296B19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2007D-BB45-4B48-B054-5B2E10D34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64DC-5ED5-4C7B-991A-9CDD05261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20995-BFF3-4357-B118-174F669CF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CC3F1-0171-49FA-BCE2-CE6F4839D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C4274-A636-4234-B8EE-9D1ED8738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E770F-9FEB-482F-83B0-1956C7CEFD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0060A-917E-473E-B6DB-4BBE3AA4C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FB3EE-83CE-4B43-8D46-785569916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8124-BE87-4091-B553-34D2820D2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9AB3-41D7-44A8-91B5-715795C21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60A5-71C9-46DF-8011-8184D0A60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C310-8592-4EB8-9E38-3AC91A6E6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CCF7-A9C3-4F94-B1B3-B6D0B3829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708D-0CBB-4FBE-8B08-9596257F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0F089-6647-46A9-8ACA-93BC8F96EB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B060A-618D-449D-B7A5-B82DB921A8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장 정서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-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행동장애아 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1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정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진흥법 시행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서장애에 자폐를 포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체 정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장애 아동협회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자폐시민협회의 자폐증의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증과 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인 등에 대한 특수교육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폐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원인 및 출현율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서와 행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각각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0.55%, 0.15%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생물학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뇌손상과 뇌기능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 요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가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3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교육적 분류체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열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으로 부적절하거나 미숙한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사회적 위축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공격적인 행동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미국 정신의학회의 정신장애진단 및 통계편람</a:t>
            </a: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(DSM-IV)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전반적 발달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주의력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결핍 및 파괴적 행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유아기 또는 초기 아동기 급식 및 섭식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틱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배설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분리불안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선택적 함묵증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애착장애</a:t>
            </a:r>
            <a:r>
              <a:rPr b="0" lang="en-US" sz="16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ffffff"/>
                </a:solidFill>
                <a:latin typeface="굴림"/>
              </a:rPr>
              <a:t>상동적 운동장애</a:t>
            </a:r>
            <a:endParaRPr b="0" lang="en-US" sz="1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통계적 분류체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외부지향성 및 내부지향성 행동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4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 정서행동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적응행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업성취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폐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극 과잉선택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낮은 동기유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자기자극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강화와 결과에 대한 독특한 반응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5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진단평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선별검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검목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checklist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투사검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접 관찰과 행동 측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6.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 및 중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동계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 행동관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물 치료와 교육의 병행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 하세요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!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3" name="Picture 4" descr="MCj04042630000[1]"/>
          <p:cNvPicPr/>
          <p:nvPr/>
        </p:nvPicPr>
        <p:blipFill>
          <a:blip r:embed="rId1"/>
          <a:stretch/>
        </p:blipFill>
        <p:spPr>
          <a:xfrm>
            <a:off x="2627280" y="184464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15:10:29Z</dcterms:created>
  <dc:creator>.</dc:creator>
  <dc:description/>
  <dc:language>en-US</dc:language>
  <cp:lastModifiedBy>sec</cp:lastModifiedBy>
  <dcterms:modified xsi:type="dcterms:W3CDTF">2010-01-11T00:15:28Z</dcterms:modified>
  <cp:revision>8</cp:revision>
  <dc:subject/>
  <dc:title>제 6장 사회교과교육</dc:title>
</cp:coreProperties>
</file>