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1FE0-A57F-49A4-9D4F-7561F3328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6DBF-84BC-41C0-9A3C-1E671F184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B7BC-2F66-4244-9A26-A82D75DF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EAC7-7078-4E60-8042-7381B9609F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4A980-854E-449F-89F9-A4407FC446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E0A81-7EC6-4C46-A294-4241E22ED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971A5-D158-410A-B637-3196D5CF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BF34F-6B40-4755-9FC9-BD3E88BE90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ECA6-9EEB-4805-BEA5-BD7014B6E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CDDE2-1721-44FD-87CA-87C2E2D6A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F7DD2-625C-48DA-9FCF-60297FFCC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F855-C983-4142-85B2-4CCE54AD7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8FEA3-6A18-4E3D-B26E-5F6B231B3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5D2DFA-267B-4BFA-9C7A-042BF4A2E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333DC-8820-4883-AED4-667C50CDD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FEF6B-D13B-463C-BE15-5F2EBDF6D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1FF22-2335-4C64-9208-03A8AE3A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FA1F-A955-4814-9769-4F9E0405D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1B0C-8723-4F79-A062-0B36F1B36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657-C778-4EF0-8B78-26058BFF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37EF4-B6B2-4920-BF93-928FA5783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0C705-83AD-4A25-9862-AACB165F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934-102C-4373-B08B-C9BA5DF9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815D-2099-44F0-9A0E-21C28C70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1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7E6B8-3E76-45A6-93F0-302CCB67C4E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81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93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94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16488-8DC4-46AD-A1E6-F9368900668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굴림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ffff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7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장 행동관리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645000"/>
            <a:ext cx="6400800" cy="131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고전행동주의와 신행동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과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S-R-S (ABC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수정의 관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거 또는 증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성취동기 향상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보상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칭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흥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동기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효능감과 귀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행동수정 전략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한 행동의 증가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적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토큰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할머니 법칙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remark Principle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계약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바람직하지 못한 행동의 감소 전략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소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대책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ffff9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학급관리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의 물리적 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조 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좌석배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실생활 규칙 제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99"/>
                </a:solidFill>
                <a:latin typeface="굴림"/>
              </a:rPr>
              <a:t>질문</a:t>
            </a:r>
            <a:r>
              <a:rPr b="0" lang="en-US" sz="4400" spc="-1" strike="noStrike">
                <a:solidFill>
                  <a:srgbClr val="ffff99"/>
                </a:solidFill>
                <a:latin typeface="굴림"/>
              </a:rPr>
              <a:t>?</a:t>
            </a:r>
            <a:endParaRPr b="0" lang="en-US" sz="4400" spc="-1" strike="noStrike">
              <a:solidFill>
                <a:srgbClr val="ffff99"/>
              </a:solidFill>
              <a:latin typeface="굴림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47530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0T03:46:38Z</dcterms:created>
  <dc:creator>.</dc:creator>
  <dc:description/>
  <dc:language>en-US</dc:language>
  <cp:lastModifiedBy>f</cp:lastModifiedBy>
  <dcterms:modified xsi:type="dcterms:W3CDTF">2007-05-02T01:29:10Z</dcterms:modified>
  <cp:revision>9</cp:revision>
  <dc:subject/>
  <dc:title>제 7장 체육교육과정</dc:title>
</cp:coreProperties>
</file>