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0DBD4-F072-47AD-A711-5213F624D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A2D0-6606-4B7F-86F8-456510CE6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F05A2-B0E8-41CB-9A66-3E7D2BE36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D852-02F5-4BB9-8E32-BF62FBDD1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C4D6-C9E3-47B0-B101-BFF4AC643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D320F-6C21-4690-A329-289C3019B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B5580-F6A2-4B04-8A58-D6F0F292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6D02C-8551-4FA6-95E4-4F8E2791F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3F854-1D9A-4889-A528-BE0B2D2FF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1D9025-9A9D-4A9C-96D1-AB915208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B7BE-E0E0-4E84-8E4B-CC5BB40BD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8F2F5-16E6-4F12-BC16-502252B34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7A83E-B3C8-43C4-BD62-28A0EA7E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E1B07-4E7F-49D9-926B-7246552C7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DEF43-7E4C-44FB-90C1-C28B5A608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547D9B-6253-4F41-B6E5-C94E800DA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672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212880" y="12510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409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672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212880" y="379368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2BC15-6FBE-4BAA-896B-87A3B2411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3B33-5C24-4C18-8D44-6C84010FF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3427-C2D7-42DA-9AE4-8F2D6364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09FD1-A1AC-4E47-8683-31694BC3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6800" y="284040"/>
            <a:ext cx="8683560" cy="31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6346B-3DF7-42DA-8BA6-0BB47AAB8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EE36-DCEE-4727-AB0A-20ADD7631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90880" y="379368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9CAF-52A5-4600-9557-1BD1B698D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0880" y="12510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40920" y="379368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4519-DB48-46EE-9654-DBB7D3A7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afaf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afafa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afaf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f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9253-6F9B-4CA8-8EB6-3B38A4F46616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346120"/>
            <a:ext cx="859284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3439800"/>
            <a:ext cx="7677000" cy="5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542916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afa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F9D9-93EF-4844-9370-937433F74623}" type="slidenum">
              <a:rPr b="0" lang="ko-KR" sz="2400" spc="-1" strike="noStrike">
                <a:solidFill>
                  <a:srgbClr val="fafafa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0" y="1339560"/>
            <a:ext cx="85932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굴림"/>
                <a:ea typeface="굴림"/>
              </a:rPr>
              <a:t>2</a:t>
            </a: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장 통합교육의 동향과 발전과제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-360" y="2922120"/>
            <a:ext cx="767700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afafa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철학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1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정상화 개념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 북유럽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2)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잠재력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일반 체제 이론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개인의 철학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,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자기 결정 운동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의 용어와 배경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정상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norm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mainstreaming)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와 탈수용화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deinstitutionalization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주류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환경과 관련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탈수용화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지역사회의 환경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naissance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의 인본주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주류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통합교육의 방안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구체적인 방안 미흡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전통적인 일반학교의 적합성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과정과 프로그램의 효율성 비판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, 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수행에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비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학급의 증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일반학급에서의 통합교육의 필요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일반교육 주도화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Regular Education Initiative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권리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수교육과 일반교육의 단일체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분리교육의 감소 또는 제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효율적인 교수체제의 단일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 중복장애아동의 통합 비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(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완전</a:t>
            </a:r>
            <a:r>
              <a:rPr b="0" lang="en-US" sz="4400" spc="-1" strike="noStrike">
                <a:solidFill>
                  <a:srgbClr val="ffc638"/>
                </a:solidFill>
                <a:latin typeface="Arial"/>
                <a:ea typeface="굴림"/>
              </a:rPr>
              <a:t>) </a:t>
            </a: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통합교육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인간의 자유와 존엄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중증장애아동의 통합 제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여러 압력 단체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살라만카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(Salamanca) </a:t>
            </a: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선언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자신의 거주지 학교 입학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제한된 환경의 최소화와 이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638"/>
                </a:solidFill>
                <a:latin typeface="Arial"/>
                <a:ea typeface="굴림"/>
              </a:rPr>
              <a:t>살라만카 선언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UNESCO 1994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년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: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- 88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국가와 </a:t>
            </a:r>
            <a:r>
              <a:rPr b="0" lang="en-US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25</a:t>
            </a: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개의 국제조직위원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의 기본권과 기회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특별한 욕구와 적성에 맞는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교육체제와 아동의 다양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아동중심 교육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23232"/>
              </a:buClr>
              <a:buFont typeface="굴림체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체"/>
                <a:ea typeface="굴림체"/>
              </a:rPr>
              <a:t>완전통합 방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법적 근거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교재 참고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역사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제외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대 이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분리 특수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850-195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모움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50-1980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포함식 통합교육기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(1990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년 이후</a:t>
            </a:r>
            <a:r>
              <a:rPr b="0" lang="ko-KR" sz="3600" spc="-1" strike="noStrike">
                <a:solidFill>
                  <a:srgbClr val="323232"/>
                </a:solidFill>
                <a:latin typeface="굴림"/>
                <a:ea typeface="굴림"/>
              </a:rPr>
              <a:t>)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 모형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물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용어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행정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사회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교육과정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323232"/>
                </a:solidFill>
                <a:latin typeface="굴림"/>
                <a:ea typeface="굴림"/>
              </a:rPr>
              <a:t>심리적 통합</a:t>
            </a:r>
            <a:endParaRPr b="0" lang="en-US" sz="35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c638"/>
                </a:solidFill>
                <a:latin typeface="Arial"/>
                <a:ea typeface="굴림"/>
              </a:rPr>
              <a:t>정리 및 질문</a:t>
            </a:r>
            <a:endParaRPr b="0" lang="en-US" sz="40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합교육에 대한 이해의 필요성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조작적 정의에 대한 이해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강제가 아니라 최적의 학습 조건 제공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통학교육의 당위성 증명 노력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우리의 현실은 모움식 통합 단계이며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완전 포함교육을 강제해서는 안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육전반의 개선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협력학습 등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행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재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교사양성 및 재교육 체제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,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학교 구조의 재조직화 등이 선결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23232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과정과 수단 및 방법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(+ 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목적</a:t>
            </a:r>
            <a:r>
              <a:rPr b="0" lang="ko-KR" sz="2800" spc="-1" strike="noStrike">
                <a:solidFill>
                  <a:srgbClr val="323232"/>
                </a:solidFill>
                <a:latin typeface="Arial"/>
                <a:ea typeface="굴림"/>
              </a:rPr>
              <a:t>)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638"/>
                </a:solidFill>
                <a:latin typeface="Arial"/>
                <a:ea typeface="굴림"/>
              </a:rPr>
              <a:t>질문</a:t>
            </a:r>
            <a:r>
              <a:rPr b="0" lang="en-US" sz="6000" spc="-1" strike="noStrike">
                <a:solidFill>
                  <a:srgbClr val="ffc638"/>
                </a:solidFill>
                <a:latin typeface="Arial"/>
                <a:ea typeface="굴림"/>
              </a:rPr>
              <a:t>??</a:t>
            </a:r>
            <a:endParaRPr b="0" lang="en-US" sz="6000" spc="-1" strike="noStrike">
              <a:solidFill>
                <a:srgbClr val="ffc638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1833480" y="1771560"/>
            <a:ext cx="54738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638"/>
                </a:solidFill>
                <a:latin typeface="굴림"/>
                <a:ea typeface="굴림"/>
              </a:rPr>
              <a:t>1. </a:t>
            </a: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동향과 발전과제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학급의 설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71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에 대한 논의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8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현장 적용의 시도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0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대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특수교육 진흥법에 규정</a:t>
            </a: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: 1994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년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용어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tegrat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선 분리 후 통합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fafafa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23232"/>
                </a:solidFill>
                <a:latin typeface="굴림"/>
                <a:ea typeface="굴림"/>
              </a:rPr>
              <a:t>Inclusion: </a:t>
            </a:r>
            <a:r>
              <a:rPr b="0" lang="zh-CN" sz="3600" spc="-1" strike="noStrike">
                <a:solidFill>
                  <a:srgbClr val="323232"/>
                </a:solidFill>
                <a:latin typeface="굴림"/>
                <a:ea typeface="굴림"/>
              </a:rPr>
              <a:t>비 분리 후 필요에 따른 분리 </a:t>
            </a: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  <a:p>
            <a:pPr marL="4492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목적과 가치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객관적과 주관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교육 목표 또는 가치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다양성이 전제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평등권 추구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교육의 수월성 보장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조화의 극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통합교육의 수단과 과정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 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-</a:t>
            </a: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목적도 포함되어야 한다</a:t>
            </a: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.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개념적 및 법적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미국 공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Public Law: PL) 94-142(197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완전취학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: 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무상교육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공평한 평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개별화 교육 프로그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제한된 환경의 최소화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적법 절차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부모 참여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PL 99-457(1986): 0-5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세의 무상교육 확대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우리나라 통합교육 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(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특수교육진흥법 제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2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조 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6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항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, 2005)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- 1977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년 제정</a:t>
            </a:r>
            <a:r>
              <a:rPr b="0" lang="en-US" sz="2800" spc="-1" strike="noStrike">
                <a:solidFill>
                  <a:srgbClr val="323232"/>
                </a:solidFill>
                <a:latin typeface="굴림"/>
                <a:ea typeface="굴림"/>
              </a:rPr>
              <a:t>; 10</a:t>
            </a:r>
            <a:r>
              <a:rPr b="0" lang="zh-CN" sz="2800" spc="-1" strike="noStrike">
                <a:solidFill>
                  <a:srgbClr val="323232"/>
                </a:solidFill>
                <a:latin typeface="굴림"/>
                <a:ea typeface="굴림"/>
              </a:rPr>
              <a:t>차례 개정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이해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omas Kuhn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의 저서 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The Structure of Scientific Revolutions(1962, 1970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）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이란 무엇인가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?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뉴턴의 만류인력 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객관성과 불변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의 인식론</a:t>
            </a: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: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의 도입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패러다임과 권력의 상관성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과학과 권력의 상관성</a:t>
            </a:r>
            <a:r>
              <a:rPr b="0" lang="en-US" sz="3200" spc="-1" strike="noStrike">
                <a:solidFill>
                  <a:srgbClr val="323232"/>
                </a:solidFill>
                <a:latin typeface="HY버들M"/>
                <a:ea typeface="HY버들M"/>
              </a:rPr>
              <a:t> 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기원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정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2323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일본에 대한 사고의 틀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1945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          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2008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년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침략국          경제대국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원수             소형화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SONY)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징병             자동차</a:t>
            </a: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(TOYOTA) </a:t>
            </a:r>
            <a:br>
              <a:rPr sz="2800"/>
            </a:br>
            <a:r>
              <a:rPr b="0" lang="en-US" sz="2800" spc="-1" strike="noStrike">
                <a:solidFill>
                  <a:srgbClr val="323232"/>
                </a:solidFill>
                <a:latin typeface="Arial"/>
                <a:ea typeface="굴림"/>
              </a:rPr>
              <a:t>         </a:t>
            </a:r>
            <a:r>
              <a:rPr b="0" lang="zh-CN" sz="2800" spc="-1" strike="noStrike">
                <a:solidFill>
                  <a:srgbClr val="323232"/>
                </a:solidFill>
                <a:latin typeface="Arial"/>
                <a:ea typeface="굴림"/>
              </a:rPr>
              <a:t>죽일             죽일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74920" y="1771560"/>
            <a:ext cx="0" cy="312264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38200" y="2490840"/>
            <a:ext cx="609264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638"/>
                </a:solidFill>
                <a:latin typeface="Arial"/>
                <a:ea typeface="굴림"/>
              </a:rPr>
              <a:t>패러다임의 분류</a:t>
            </a:r>
            <a:endParaRPr b="0" lang="en-US" sz="44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26920" y="1914120"/>
            <a:ext cx="8004240" cy="418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                      </a:t>
            </a: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거시적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인본주의           구조주의</a:t>
            </a:r>
            <a:br>
              <a:rPr sz="3200"/>
            </a:br>
            <a:br>
              <a:rPr sz="3200"/>
            </a:br>
            <a:r>
              <a:rPr b="0" lang="zh-CN" sz="3200" spc="-1" strike="noStrike">
                <a:solidFill>
                  <a:srgbClr val="323232"/>
                </a:solidFill>
                <a:latin typeface="Arial"/>
                <a:ea typeface="굴림"/>
              </a:rPr>
              <a:t>주관적                                객관적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해석주의           기능주의</a:t>
            </a:r>
            <a:br>
              <a:rPr sz="3200"/>
            </a:br>
            <a:r>
              <a:rPr b="0" lang="en-US" sz="3200" spc="-1" strike="noStrike">
                <a:solidFill>
                  <a:srgbClr val="323232"/>
                </a:solidFill>
                <a:latin typeface="Arial"/>
                <a:ea typeface="굴림"/>
              </a:rPr>
              <a:t>                    미시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54200" y="3643200"/>
            <a:ext cx="3505320" cy="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38560" y="2563920"/>
            <a:ext cx="0" cy="2209680"/>
          </a:xfrm>
          <a:prstGeom prst="line">
            <a:avLst/>
          </a:prstGeom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6800" y="284040"/>
            <a:ext cx="868356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638"/>
                </a:solidFill>
                <a:latin typeface="굴림"/>
                <a:ea typeface="굴림"/>
              </a:rPr>
              <a:t>통합교육의 사회적 배경</a:t>
            </a:r>
            <a:endParaRPr b="0" lang="en-US" sz="4800" spc="-1" strike="noStrike">
              <a:solidFill>
                <a:srgbClr val="ffc638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0920" y="125100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Kuhn(1962, 1970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Burrell &amp; Morgan(1979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굴림"/>
                <a:ea typeface="굴림"/>
              </a:rPr>
              <a:t>Skrtic(1991)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패러다임의 변화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개인의 결함보다는 환경과 제도의 문제점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모두를 위한 교육에 대한 공통체 의식 확산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  <a:p>
            <a:pPr marL="609480" indent="-609480">
              <a:lnSpc>
                <a:spcPct val="110000"/>
              </a:lnSpc>
              <a:buClr>
                <a:srgbClr val="fafafa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23232"/>
                </a:solidFill>
                <a:latin typeface="굴림"/>
                <a:ea typeface="굴림"/>
              </a:rPr>
              <a:t>삶의 질 향상</a:t>
            </a:r>
            <a:endParaRPr b="0" lang="en-US" sz="3200" spc="-1" strike="noStrike">
              <a:solidFill>
                <a:srgbClr val="fafaf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4T21:04:06Z</dcterms:created>
  <dc:creator/>
  <dc:description/>
  <dc:language>en-US</dc:language>
  <cp:lastModifiedBy>XPuser</cp:lastModifiedBy>
  <dcterms:modified xsi:type="dcterms:W3CDTF">2008-07-25T03:10:18Z</dcterms:modified>
  <cp:revision>19</cp:revision>
  <dc:subject/>
  <dc:title>농아동의 수학교과교육</dc:title>
</cp:coreProperties>
</file>