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249CB-1B34-4DFA-8E25-2FA0770C5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CF7B-14B7-4135-92E8-1901B0433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E2F3-6D03-412C-A7E4-5C22A79B4D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E3EA-1E35-470B-A244-A776416DA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BFF1-FDF4-41D9-B164-F9BEABF402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EB79F-BD5D-46FA-95B3-ABB6B8E5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42D97-7E4D-4916-8051-2FF39300F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42F7-F914-40F0-A918-3E6A8B6E3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077A8-66A7-40A4-9E66-A1452DFD4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7E4E-61CF-422D-BD08-55ACEC69B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BEB6C-0C19-49A6-99CB-C22B7173B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6B8C-6019-4280-9AAB-1F02EC30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20890-3329-4E98-A0E3-0333A53B3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30BCA-8D4B-4660-A5E0-B3FC3499C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7287-DEBE-4CC7-85D4-05A88F9BD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F7EE7-1CB5-406F-AAB4-95B5D8E85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A1998-C5F6-492E-A552-D0A27E30C4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943C-49F6-4581-9A1D-DEDBA7C2D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81D2-BDB2-4183-9778-3E780DB97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5157-7EC3-4809-B664-4F71F6174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E2B37-346E-4B9A-8AF4-7E7976135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1E21B-DA32-4093-9575-3D1C6C781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3174F-C021-4DA4-AE8C-A56260A41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606D-C75D-4769-B4BF-14D74B10E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25200-B5FE-44BC-A7E8-7AE40FEA163A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68D36-9C39-4C3B-A6E5-4C0F102DE525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eec94"/>
                </a:solidFill>
                <a:latin typeface="굴림"/>
              </a:rPr>
              <a:t>13</a:t>
            </a:r>
            <a:r>
              <a:rPr b="1" lang="zh-CN" sz="5400" spc="-1" strike="noStrike">
                <a:solidFill>
                  <a:srgbClr val="feec94"/>
                </a:solidFill>
                <a:latin typeface="굴림"/>
              </a:rPr>
              <a:t>장 특수아의 가족</a:t>
            </a:r>
            <a:endParaRPr b="1" lang="en-US" sz="5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개요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족의 반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도전과 적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부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장애 형제 자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낯선 사람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만성적인 슬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적인 성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토론 결과 발표하기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조별 토론결과를 정리하고 발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eec94"/>
                </a:solidFill>
                <a:latin typeface="굴림"/>
              </a:rPr>
              <a:t>질문하세요</a:t>
            </a:r>
            <a:r>
              <a:rPr b="1" lang="en-US" sz="4400" spc="-1" strike="noStrike">
                <a:solidFill>
                  <a:srgbClr val="feec94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eec94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556000" y="1844640"/>
            <a:ext cx="403200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19:18:10Z</dcterms:created>
  <dc:creator>.</dc:creator>
  <dc:description/>
  <dc:language>en-US</dc:language>
  <cp:lastModifiedBy>f</cp:lastModifiedBy>
  <dcterms:modified xsi:type="dcterms:W3CDTF">2007-05-17T01:58:07Z</dcterms:modified>
  <cp:revision>13</cp:revision>
  <dc:subject/>
  <dc:title>제 13장 농아동의 학습 수행</dc:title>
</cp:coreProperties>
</file>