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0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5178B-0EEB-4D19-8497-329CDC67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CC4076-256C-46E8-8E6B-BD12D58E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21BAE3-2D31-4859-B1FB-B9C09BE641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84352C-9783-48EA-A9A5-08C4FFB891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27BC-34DC-4F6F-9C28-F6BBC62A2E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5F7CE-EC9C-406F-9CCC-957DCF7FA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DADB1-17DF-4932-B625-E554000FB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211D3-6D4F-4E2B-8BBE-A13EF50CA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CF8D7-C613-420D-9478-0E6F0628C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99A2-9FAB-4F54-959D-25AFAFE4F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3CE41-3066-4E05-9F3D-A1C4F7175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3BFA8F-8176-4E26-80AB-4FFD981C5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0993A-EC2E-4EB5-8725-E8513A642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90DA9-6D7A-4CF0-9DD3-847BEC6E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389BC-C6AA-4E11-8EF5-7481AFAA8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0AF4-CC1E-4001-BA17-EA345D069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96488-C61F-45C4-98BB-1E87C33F11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3085D5-FFEA-49E5-A43C-071334C2E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4A083-8A3B-417F-8551-D132FB79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E9576-ED16-4876-8947-C7E9023AA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789BC5-C6D7-47A5-AC58-CFE42F55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99C1D-007C-44C4-AEB9-736CD101B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4D1A52-1C46-4AA5-9CB1-2757D15C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7EF0C9-9063-4FE3-99DD-5EA618D8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539C4-E3BE-4752-AC1C-1B4F391C5C1F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03E11-8FF1-4FF7-8A8A-72EE43FB976B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5000" spc="-1" strike="noStrike">
                <a:solidFill>
                  <a:srgbClr val="ffffff"/>
                </a:solidFill>
                <a:latin typeface="굴림"/>
              </a:rPr>
              <a:t>의용평류전류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836640"/>
            <a:ext cx="8229600" cy="503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평류요법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 ← 허혈 부위에 농축된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H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  <a:ea typeface="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K</a:t>
            </a:r>
            <a:r>
              <a:rPr b="0" lang="ko-KR" sz="3200" spc="-1" strike="noStrike" baseline="30000">
                <a:solidFill>
                  <a:srgbClr val="000000"/>
                </a:solidFill>
                <a:latin typeface="굴림"/>
              </a:rPr>
              <a:t>+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제거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낮은 전류강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0.15-0.25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로 장시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5-30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적용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매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1204920" y="0"/>
            <a:ext cx="6337440" cy="645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1019160"/>
            <a:ext cx="9144000" cy="48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900000" y="135000"/>
            <a:ext cx="7344000" cy="658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00000" y="398520"/>
            <a:ext cx="7775640" cy="641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55640" y="160200"/>
            <a:ext cx="7777080" cy="666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치료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순환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의 혈관운동신경자극으로 평류 충혈이 생기고 이것은 혈관확장을 의미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영양 증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염증산물흡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세포의 신진대사 촉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 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용 방법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접촉방식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(contact method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①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편안한 자세로 치료부위 노출 및 지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②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 원리 및 경험되는 감각 설명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따끔따끔 쑤시는 감각 → 따뜻한 감각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③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부위의 검사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피부 표면의 문제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금속의 유무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④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환자의 감각 구별 능력 검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468360" y="738360"/>
            <a:ext cx="8136000" cy="51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기름기 제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적은 패드 접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⑥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도중 움직이거나 치료기기를 만지지 않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상 감각 시 이야기를 하도록 주의를 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⑦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시 환자 및 전류계 관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⑧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종료 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핑크 빛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하 피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와 패드를 씻어 화학물질 제거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⑨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배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횡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로 관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종 방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적절한 전류 강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0.5-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ko-KR" sz="28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⑪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5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79280" y="404640"/>
            <a:ext cx="878544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중 치료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ubaquatic method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부위가 불 균일한 윤곽이거나 광범위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산이 필요할 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편안한 자세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부위 평가 및 청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동통감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따뜻한 욕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baths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에 담금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92-100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의사항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물에서 다리를 들어내지 않도록 경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 쇼크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욕조에서 금속을 만지지 않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도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면에 있는 피부 부위에 절연크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바셀린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⑤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평류 치료 시 장시간의 낮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평류 치료 시 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전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99640" y="1988640"/>
            <a:ext cx="74278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직류전류의 기본개념을 이해하고 의용 평류전류의 생리적 효과를 토대로 적응증과 금기증을 파악한다</a:t>
            </a: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356000" y="692280"/>
            <a:ext cx="809640" cy="104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7643880" cy="47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급성 염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외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좌상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 염증성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초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근육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신경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절통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레이노드 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과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정신과적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588000" y="692280"/>
            <a:ext cx="1047960" cy="914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98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898" fill="hold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898" fill="hold"/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898" fill="hold"/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898" fill="hold"/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898" fill="hold"/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898" fill="hold"/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의용평류치료의 금기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95280" y="1483920"/>
            <a:ext cx="807552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열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결 핵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악성종양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출혈성 질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피부질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습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건선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 소실 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장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불 유합된 골절부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새로 생기는 상처 조직 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심박조정기 착용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6516720" y="549360"/>
            <a:ext cx="79056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500"/>
                                        <p:tgtEl>
                                          <p:spTgt spid="1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0" dur="500"/>
                                        <p:tgtEl>
                                          <p:spTgt spid="1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1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정  의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9152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전류를 이용한 전기치료의 한 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형 직류 혹은 평류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smooth current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갈바니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 curren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과 크기가 변하지 않고 일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interrupted galvanic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정하지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크기가 변함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역전형직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reversed direct current)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방향이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의 간격으로 변함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411280" y="549360"/>
            <a:ext cx="86688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의 특성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700280"/>
            <a:ext cx="843588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류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평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Galvanic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초 이상 한 방향으로 일정하게 흐르는 전류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주파수 없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효과는 화학적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류강도는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 이하 사용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교류정류기 – 진공관식 정류기와 반도체 다이오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성검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기포검사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산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극 수소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리트머스 –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(-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기성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995640" y="620640"/>
            <a:ext cx="866880" cy="10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1.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물리화학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Cl + H</a:t>
            </a:r>
            <a:r>
              <a:rPr b="0" lang="ko-KR" sz="2800" spc="-1" strike="noStrike" baseline="-25000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0 = NaCl + HC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Cl-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염산과 산소 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산성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백질 응고 – 착색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Na+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수산화나트륨과 수소발생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알카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화학적 화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의 액화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관 확장의 영향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미열효과를 목적으로 사용하지는 않는다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감각은 처음은 따끔거리는 감각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몇 분 후 경미한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온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0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직류전류의 생리적 효과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88930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국소 충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Galvanic hyperemia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수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혈관 이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 0.8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㎠ 강도로 자극시 반자극 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증완화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정 및 자극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흥분성 증가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2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감각신경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음극에서 역치 저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양극통전시 역치상승 – 통증 완화 이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3)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전도 속도 감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 시 고려 사항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41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강도범위 –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1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당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½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로 하되 피부인내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적당한 치료강도는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0.5-1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/inch</a:t>
            </a:r>
            <a:r>
              <a:rPr b="0" lang="en-US" sz="3200" spc="-1" strike="noStrike" baseline="30000">
                <a:solidFill>
                  <a:srgbClr val="000000"/>
                </a:solidFill>
                <a:latin typeface="굴림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치료시간 – 처음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2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경과에 따라 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0-40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주의점 – 강도조절은 서서히 증가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습도는 충분히</a:t>
            </a: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굴림"/>
              </a:rPr>
              <a:t>도자와 피부접촉은 견고히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3300"/>
                </a:solidFill>
                <a:latin typeface="굴림"/>
              </a:rPr>
              <a:t>치  료  효  과</a:t>
            </a:r>
            <a:endParaRPr b="0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0" y="1197000"/>
          <a:ext cx="9143640" cy="5795640"/>
        </p:xfrm>
        <a:graphic>
          <a:graphicData uri="http://schemas.openxmlformats.org/drawingml/2006/table">
            <a:tbl>
              <a:tblPr/>
              <a:tblGrid>
                <a:gridCol w="2770200"/>
                <a:gridCol w="3325680"/>
                <a:gridCol w="3047760"/>
              </a:tblGrid>
              <a:tr h="527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양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음  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물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산성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알카리 반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미열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400">
                <a:tc row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생리화학적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경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조직의 연화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흥분성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증가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역치 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진정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자극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감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통증 유발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수축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혈관 확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6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 빈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국소충혈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지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굴림"/>
                        </a:rPr>
                        <a:t>출혈 효과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708360" y="0"/>
            <a:ext cx="961920" cy="10476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임상적 치료 양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34136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 형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음극평류 요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athodal galvanism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반자극 효과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counter-irritant effect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혈관확장→ 순환증가→ 통증의 원인인자 제거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경로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직경이 큰 감각신경에 작용→ 척수의 연접 전 억제 기전 활성화 → 통증 감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만성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조직 허혈로 인한 통증 완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기간 높은 용량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대강도 적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0.5-0.8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㎃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㎠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시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0-2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치료빈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2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7T12:51:14Z</dcterms:created>
  <dc:creator>win xp</dc:creator>
  <dc:description/>
  <dc:language>en-US</dc:language>
  <cp:lastModifiedBy>ANGEL</cp:lastModifiedBy>
  <dcterms:modified xsi:type="dcterms:W3CDTF">2005-04-27T14:39:21Z</dcterms:modified>
  <cp:revision>9</cp:revision>
  <dc:subject/>
  <dc:title>의용평류전류</dc:title>
</cp:coreProperties>
</file>