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AFAE-F65B-4F51-96BA-B8017BCB38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2B77-A378-4840-9BBC-20D3F1464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7E6C-86B2-49E2-8C79-C8ECA967DD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7A405-928B-41C7-9E9C-CE80A324B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B62D4-37F0-4E1D-BEA2-326FFB932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C56A-4F52-4B48-91B0-ADBF157EF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80BFF2-21B1-40C8-B28D-5B07276F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B5713-2FE4-459F-99AA-FD5C53E75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18D94-9D30-4E1D-9D12-A6A8A99BF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D170-7914-4EC2-9381-89B1ED78A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8F4A53-6265-4915-8F21-971B51C0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DBAB-7DF5-4346-B0C7-0B4A2D98C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EA4FA-4797-4CEE-89F7-3497821EC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D3C1-1410-4305-9D3D-757B3A36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55355-5BC1-4167-8741-E415DBC8A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60383-2E28-43E3-B58E-8F9D8B813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B4C5A-EFDC-4814-8F1F-68DB6871C8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ABC2D-B488-4252-8718-FDE33B3C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25017-DB74-4337-A9DB-95C1D2F975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A95D-8C72-4F07-B483-488031317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120A7-19F4-44CE-A787-0972C9CA9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D458-A15E-41B5-B238-49AD67BA2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C4CC-A029-4145-9419-FB7B9348E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A948-1727-4850-8F80-DEE4B1955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" name=""/>
          <p:cNvSpPr/>
          <p:nvPr/>
        </p:nvSpPr>
        <p:spPr>
          <a:xfrm>
            <a:off x="0" y="17524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3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4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5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1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2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3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4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5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6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7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8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19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0" name="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83c9c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21" name=""/>
          <p:cNvGrpSpPr/>
          <p:nvPr/>
        </p:nvGrpSpPr>
        <p:grpSpPr>
          <a:xfrm>
            <a:off x="0" y="0"/>
            <a:ext cx="9144000" cy="380880"/>
            <a:chOff x="0" y="0"/>
            <a:chExt cx="9144000" cy="380880"/>
          </a:xfrm>
        </p:grpSpPr>
        <p:sp>
          <p:nvSpPr>
            <p:cNvPr id="22" name=""/>
            <p:cNvSpPr/>
            <p:nvPr/>
          </p:nvSpPr>
          <p:spPr>
            <a:xfrm>
              <a:off x="0" y="0"/>
              <a:ext cx="9144000" cy="380880"/>
            </a:xfrm>
            <a:prstGeom prst="rect">
              <a:avLst/>
            </a:prstGeom>
            <a:solidFill>
              <a:srgbClr val="f6bf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  <p:pic>
          <p:nvPicPr>
            <p:cNvPr id="23" name="" descr=""/>
            <p:cNvPicPr/>
            <p:nvPr/>
          </p:nvPicPr>
          <p:blipFill>
            <a:blip r:embed="rId2"/>
            <a:stretch/>
          </p:blipFill>
          <p:spPr>
            <a:xfrm>
              <a:off x="762120" y="76320"/>
              <a:ext cx="7696080" cy="255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1" marL="888840" indent="-43956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2" marL="1293840" indent="-40320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3" marL="1681200" indent="-385920">
              <a:spcBef>
                <a:spcPts val="700"/>
              </a:spcBef>
              <a:buClr>
                <a:srgbClr val="f6bf8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4" marL="2070000" indent="-387360">
              <a:spcBef>
                <a:spcPts val="70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5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lvl="6" marL="2070000" indent="-387360">
              <a:spcBef>
                <a:spcPts val="700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387C2-9A7E-4197-B83E-0B7CF2CB6385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0" y="1447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752480"/>
            <a:ext cx="910584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0574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3623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69" name=""/>
          <p:cNvSpPr/>
          <p:nvPr/>
        </p:nvSpPr>
        <p:spPr>
          <a:xfrm>
            <a:off x="0" y="26668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9718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2767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5812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3" name=""/>
          <p:cNvSpPr/>
          <p:nvPr/>
        </p:nvSpPr>
        <p:spPr>
          <a:xfrm>
            <a:off x="0" y="38862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4" name=""/>
          <p:cNvSpPr/>
          <p:nvPr/>
        </p:nvSpPr>
        <p:spPr>
          <a:xfrm>
            <a:off x="0" y="41911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5" name=""/>
          <p:cNvSpPr/>
          <p:nvPr/>
        </p:nvSpPr>
        <p:spPr>
          <a:xfrm>
            <a:off x="0" y="44956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6" name=""/>
          <p:cNvSpPr/>
          <p:nvPr/>
        </p:nvSpPr>
        <p:spPr>
          <a:xfrm>
            <a:off x="0" y="48006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7" name=""/>
          <p:cNvSpPr/>
          <p:nvPr/>
        </p:nvSpPr>
        <p:spPr>
          <a:xfrm>
            <a:off x="0" y="51055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8" name=""/>
          <p:cNvSpPr/>
          <p:nvPr/>
        </p:nvSpPr>
        <p:spPr>
          <a:xfrm>
            <a:off x="0" y="541008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79" name=""/>
          <p:cNvSpPr/>
          <p:nvPr/>
        </p:nvSpPr>
        <p:spPr>
          <a:xfrm>
            <a:off x="0" y="5715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0" name=""/>
          <p:cNvSpPr/>
          <p:nvPr/>
        </p:nvSpPr>
        <p:spPr>
          <a:xfrm>
            <a:off x="0" y="601992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8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cap="rnd" w="6480">
            <a:solidFill>
              <a:srgbClr val="dddddd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83" name=""/>
            <p:cNvGrpSpPr/>
            <p:nvPr/>
          </p:nvGrpSpPr>
          <p:grpSpPr>
            <a:xfrm>
              <a:off x="0" y="0"/>
              <a:ext cx="9144000" cy="866880"/>
              <a:chOff x="0" y="0"/>
              <a:chExt cx="9144000" cy="866880"/>
            </a:xfrm>
          </p:grpSpPr>
          <p:sp>
            <p:nvSpPr>
              <p:cNvPr id="84" name=""/>
              <p:cNvSpPr/>
              <p:nvPr/>
            </p:nvSpPr>
            <p:spPr>
              <a:xfrm>
                <a:off x="0" y="679320"/>
                <a:ext cx="9144000" cy="18756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492120"/>
                <a:ext cx="9144000" cy="18720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152280"/>
                <a:ext cx="9144000" cy="187560"/>
              </a:xfrm>
              <a:prstGeom prst="rect">
                <a:avLst/>
              </a:prstGeom>
              <a:solidFill>
                <a:srgbClr val="f0eb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304920"/>
                <a:ext cx="9144000" cy="187200"/>
              </a:xfrm>
              <a:prstGeom prst="rect">
                <a:avLst/>
              </a:prstGeom>
              <a:solidFill>
                <a:srgbClr val="f6bf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292929"/>
                  </a:solidFill>
                  <a:latin typeface="굴림"/>
                </a:endParaRPr>
              </a:p>
            </p:txBody>
          </p:sp>
        </p:grpSp>
        <p:sp>
          <p:nvSpPr>
            <p:cNvPr id="89" name=""/>
            <p:cNvSpPr/>
            <p:nvPr/>
          </p:nvSpPr>
          <p:spPr>
            <a:xfrm flipV="1">
              <a:off x="0" y="0"/>
              <a:ext cx="611280" cy="6858000"/>
            </a:xfrm>
            <a:prstGeom prst="rect">
              <a:avLst/>
            </a:prstGeom>
            <a:solidFill>
              <a:srgbClr val="83c9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92929"/>
                </a:solidFill>
                <a:latin typeface="굴림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228600" y="137160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3505320"/>
            <a:ext cx="152280" cy="15228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5638680"/>
            <a:ext cx="152280" cy="152640"/>
          </a:xfrm>
          <a:prstGeom prst="ellipse">
            <a:avLst/>
          </a:prstGeom>
          <a:solidFill>
            <a:srgbClr val="f8f8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>
            <a:lum contrast="-6000"/>
          </a:blip>
          <a:stretch/>
        </p:blipFill>
        <p:spPr>
          <a:xfrm>
            <a:off x="914400" y="3276720"/>
            <a:ext cx="7696080" cy="2556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Click to edit the title text format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4"/>
          </p:nvPr>
        </p:nvSpPr>
        <p:spPr>
          <a:xfrm>
            <a:off x="651960" y="62384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ftr" idx="5"/>
          </p:nvPr>
        </p:nvSpPr>
        <p:spPr>
          <a:xfrm>
            <a:off x="323496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83642-6AC5-4084-B6FF-63DE8A0203CE}" type="slidenum">
              <a:rPr b="0" lang="en-US" sz="1400" spc="-1" strike="noStrike">
                <a:solidFill>
                  <a:srgbClr val="292929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Click to edit the outline text format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lvl="1" marL="44928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292929"/>
                </a:solidFill>
                <a:latin typeface="굴림"/>
              </a:rPr>
              <a:t>Second Outline Level</a:t>
            </a:r>
            <a:endParaRPr b="0" lang="en-US" sz="2600" spc="-1" strike="noStrike">
              <a:solidFill>
                <a:srgbClr val="292929"/>
              </a:solidFill>
              <a:latin typeface="굴림"/>
            </a:endParaRPr>
          </a:p>
          <a:p>
            <a:pPr lvl="2" marL="890640" algn="ctr">
              <a:spcBef>
                <a:spcPts val="550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92929"/>
                </a:solidFill>
                <a:latin typeface="굴림"/>
              </a:rPr>
              <a:t>Third Outline Level</a:t>
            </a:r>
            <a:endParaRPr b="0" lang="en-US" sz="2200" spc="-1" strike="noStrike">
              <a:solidFill>
                <a:srgbClr val="292929"/>
              </a:solidFill>
              <a:latin typeface="굴림"/>
            </a:endParaRPr>
          </a:p>
          <a:p>
            <a:pPr lvl="3" marL="1295280" algn="ctr">
              <a:spcBef>
                <a:spcPts val="499"/>
              </a:spcBef>
              <a:buClr>
                <a:srgbClr val="f6bf88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292929"/>
              </a:solidFill>
              <a:latin typeface="굴림"/>
            </a:endParaRPr>
          </a:p>
          <a:p>
            <a:pPr lvl="4" marL="1682640" algn="ctr">
              <a:spcBef>
                <a:spcPts val="451"/>
              </a:spcBef>
              <a:buClr>
                <a:srgbClr val="83c9c9"/>
              </a:buClr>
              <a:buFont typeface="Wingdings" charset="2"/>
              <a:buChar char="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Fif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5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ix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  <a:p>
            <a:pPr lvl="6" marL="1682640">
              <a:spcBef>
                <a:spcPts val="451"/>
              </a:spcBef>
              <a:buClr>
                <a:srgbClr val="292929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92929"/>
                </a:solidFill>
                <a:latin typeface="굴림"/>
              </a:rPr>
              <a:t>Seventh Outline Level</a:t>
            </a:r>
            <a:endParaRPr b="0" lang="en-US" sz="1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13880" y="2285640"/>
            <a:ext cx="7929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DIADYNAMIC CURRENT(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역동 전류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asking effect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어떤 증상을 다른 증상으로 바꾸어 그 효과를 모르게 하는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뇌에서 못 느끼게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면 효과 발생이 특징인 전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 진통 방법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제거하면 진통 사라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안티프라민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이 감각으로 바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얼음 마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.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생리적 효과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(1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차적 효과 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=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통증감소</a:t>
            </a: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69880" y="1295280"/>
            <a:ext cx="788832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관운동 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iaclynamic current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로서 자극은 조직 내의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histanine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을 유리시키는 결과로 충혈과 혈관 확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직접적으로 천층 조직에 일어나지만 그 결과 반사적으로 심층에서도 발생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자극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특히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를 사용할 때 근 수축이 잘 일어나며 혈류 증대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동감의 자극 동통의 중추적 가면 효과를 일으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3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적응증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연부조직 손상 – 염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타박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상과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장애 – 고정 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 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장애 –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Raynoid’s disease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삼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말초신경장애 – 신경통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신경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대상포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adiculopathy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4. </a:t>
            </a:r>
            <a:r>
              <a:rPr b="0" i="1" lang="ko-KR" sz="4000" spc="-1" strike="noStrike">
                <a:solidFill>
                  <a:srgbClr val="000000"/>
                </a:solidFill>
                <a:latin typeface="굴림"/>
              </a:rPr>
              <a:t>금기증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저주파 전기치료의 금기증에 준한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심장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피부상처 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마비부위 – 강하게 적용하지 않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돌출부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-447840">
              <a:spcBef>
                <a:spcPts val="700"/>
              </a:spcBef>
              <a:buClr>
                <a:srgbClr val="83c9c9"/>
              </a:buClr>
              <a:buFont typeface="Webdings" charset="2"/>
              <a:buChar char="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임신한 사람의 피부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in spot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양극술 –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+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위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(-)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도자는 동통점 근방에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음극 지절 근위부 혹은 통증부를 지배하는 신경근 위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Nerve trunk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천층 말초신경의 경로를 따라서 배치 자극되는 신경에 의해 적용부위에 얼얼한 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Paravertebral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두 도자를 통증부에 지배하는 신경근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level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척추골 양측에 둔다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5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(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적용선택 방법</a:t>
            </a: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91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Vasotropic application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향 혈관성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되어지는 순환장애부의 맥관 통로를 따라 도자 적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) Myo-energetic(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수축론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복의 양단에 도자 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극술로는 근육의 운동점에 한 도자가 사용되고 다른 도자는 근육 근위쪽에 배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부위를 통한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관절치료를 위해 관절 양측에 대면법으로 도자배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양한 규격의 도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습기 있는 스폰지 패드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6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임상적 적용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형태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DF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첫 치료환자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다른 전류 적용 전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순환 장애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에는 효과적이지 못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⑤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처음에는 따끔따끔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나중에는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 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아무렇지도 않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263160" y="468000"/>
            <a:ext cx="8194680" cy="54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MF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의 경련 없는 통증치료에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전감보다 더 오래 지속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침   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 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투적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수축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보다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C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성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빠르게 감소되는 세밀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 – 강하고 일정한 진동감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충분한 강도로 율동적 근수축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-360" y="468360"/>
            <a:ext cx="8458200" cy="602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4) LP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 통증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오래 지속되는 진통효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③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치료에 있어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와 병용하여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④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느리게 상하강하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강한 진동적인 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기간을 느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5) RS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①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근육에 파라딕 형태의 근육자극을 위해 사용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4478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   ②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운동신경의 흥분성을 검사하기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굴림"/>
              </a:rPr>
              <a:t>2) </a:t>
            </a:r>
            <a:r>
              <a:rPr b="0" i="1" lang="zh-CN" sz="3600" spc="-1" strike="noStrike">
                <a:solidFill>
                  <a:srgbClr val="000000"/>
                </a:solidFill>
                <a:latin typeface="굴림"/>
              </a:rPr>
              <a:t>치료강도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93400" y="1295280"/>
            <a:ext cx="8164440" cy="509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한정된 진동과 따끔거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기 통전감이 느껴질 때까지 서서히 증가시켜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통증은 느껴지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시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체적인 치료시간 범위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0-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을 초과하지 않아야 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단일적용시는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간 치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3) DF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CP: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LP: 3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MF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RS: 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약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2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4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빈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일반적으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6-7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회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매일 혹은 격일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Fixed Diphase(DF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고정된 이상성 전류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)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정형파를 진공관을 통과시켜 변조시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1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의 정현파를 전파장으로 정류시킨 단속 간격이 없는 직류 분획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(2)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세밀한 진동과 따끔거리는 세동이 빠르게 사라짐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민감성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형태보다 덜 국한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굴림"/>
              </a:rPr>
              <a:t>1. </a:t>
            </a:r>
            <a:r>
              <a:rPr b="0" i="1" lang="zh-CN" sz="4000" spc="-1" strike="noStrike">
                <a:solidFill>
                  <a:srgbClr val="000000"/>
                </a:solidFill>
                <a:latin typeface="굴림"/>
              </a:rPr>
              <a:t>물리적 특성</a:t>
            </a:r>
            <a:endParaRPr b="0" i="1" lang="en-US" sz="4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3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일시적 진동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율신경의 진통 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(4)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강한 진통적 진정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spasm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감소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AN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자극효과</a:t>
            </a:r>
            <a:r>
              <a:rPr b="0" lang="en-US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400" spc="-1" strike="noStrike">
                <a:solidFill>
                  <a:srgbClr val="292929"/>
                </a:solidFill>
                <a:latin typeface="굴림"/>
              </a:rPr>
              <a:t>진정효과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797040" y="3583080"/>
            <a:ext cx="7680240" cy="277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2) Fixed Monophase(MF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고정된 단상성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97960" y="1047600"/>
            <a:ext cx="7859880" cy="529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단속평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50Hz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의 정현파를 반파장으로 전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pulse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interval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이 각각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10ms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침투적 진동감이 강하고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운동신경 자극역치는 상대적으로 약한 강도로도 가능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강축을 피해야 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진통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충혈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긴장성 발생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비경련성 장기 부종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결합조직과 근육의 긴장성 증가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장기의 퇴행성 부위와 염증의 국소적 진단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척추분절과 좁은 압통점 부위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근수축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순환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부전부위의 순환 자극</a:t>
            </a:r>
            <a:r>
              <a:rPr b="0" lang="ko-KR" sz="2400" spc="-1" strike="noStrike">
                <a:solidFill>
                  <a:srgbClr val="292929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223920" y="0"/>
            <a:ext cx="8920080" cy="3159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235080" y="3392640"/>
            <a:ext cx="890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3) Short Period: Courtes Periods(CP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단기간의 통전시간 전류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7120" y="1425600"/>
            <a:ext cx="7772400" cy="486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M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 동안 쉬지 않고 교대로 반복해서 들어오는 전류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교대 주파수는 선명하게 식별됨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진통 효과 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혈액 순환 증진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만성 통증에 좋으며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5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가지 파형 중에서 혈종과 부종 흡수에 가장 효과적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외상후 질환에 있어서 진통효과에 부과된 부종 흡수와 좌골신경통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4) Long Period(LP: 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긴 통전시간 전류</a:t>
            </a:r>
            <a:r>
              <a:rPr b="0" i="1" lang="ko-KR" sz="36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6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9880" y="1294920"/>
            <a:ext cx="78883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5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진폭이 변조되는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 이어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초간의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로 구성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긴 통전시간과 진폭이 변조된 까닭으로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에는 강한 진동과 세밀한 세동 사이의 완만하고 급격한 변화가 있음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: DF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의 사전치료에 이어서 실시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급성 통증 질환에 빠르고 지속적인 진통효과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그 외에 </a:t>
            </a:r>
            <a:r>
              <a:rPr b="0" lang="en-US" sz="2800" spc="-1" strike="noStrike">
                <a:solidFill>
                  <a:srgbClr val="292929"/>
                </a:solidFill>
                <a:latin typeface="굴림"/>
              </a:rPr>
              <a:t>CP</a:t>
            </a:r>
            <a:r>
              <a:rPr b="0" lang="zh-CN" sz="2800" spc="-1" strike="noStrike">
                <a:solidFill>
                  <a:srgbClr val="292929"/>
                </a:solidFill>
                <a:latin typeface="굴림"/>
              </a:rPr>
              <a:t>와 같다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198360" y="279360"/>
            <a:ext cx="8558280" cy="3114720"/>
          </a:xfrm>
          <a:prstGeom prst="rect">
            <a:avLst/>
          </a:prstGeom>
          <a:ln w="0">
            <a:noFill/>
          </a:ln>
        </p:spPr>
      </p:pic>
      <p:pic>
        <p:nvPicPr>
          <p:cNvPr id="151" name="" descr=""/>
          <p:cNvPicPr/>
          <p:nvPr/>
        </p:nvPicPr>
        <p:blipFill>
          <a:blip r:embed="rId2"/>
          <a:stretch/>
        </p:blipFill>
        <p:spPr>
          <a:xfrm>
            <a:off x="212760" y="3492360"/>
            <a:ext cx="8597880" cy="270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f8f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5) Rhythme Syncope(RS: 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리듬적 중력전략</a:t>
            </a:r>
            <a:r>
              <a:rPr b="0" i="1" lang="ko-KR" sz="3200" spc="-1" strike="noStrike">
                <a:solidFill>
                  <a:srgbClr val="000000"/>
                </a:solidFill>
                <a:latin typeface="굴림"/>
              </a:rPr>
              <a:t>)</a:t>
            </a:r>
            <a:endParaRPr b="0" i="1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2440" y="1193760"/>
            <a:ext cx="8105760" cy="508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 및 파형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휴식에 이어서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1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초간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MF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가 전달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전류의 감각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분리된 전형 파형 내에서는 매우 강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생리적 효과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골격근에 강한 자극과 진통효과가 있지만 신경변성이 전체적으로 없을 때에만 사용 가능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83c9c9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치료적 적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감응전류 흥분성을 위한 진단 목적으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무용성 근약증의 경우 골격근 자극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경결부 연화를 위해서 사용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292929"/>
                </a:solidFill>
                <a:latin typeface="굴림"/>
              </a:rPr>
              <a:t>유착 조직의 괴리를 위해</a:t>
            </a:r>
            <a:endParaRPr b="0" lang="en-US" sz="2800" spc="-1" strike="noStrike">
              <a:solidFill>
                <a:srgbClr val="292929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8T14:31:51Z</dcterms:created>
  <dc:creator>win xp</dc:creator>
  <dc:description/>
  <dc:language>en-US</dc:language>
  <cp:lastModifiedBy>win xp</cp:lastModifiedBy>
  <dcterms:modified xsi:type="dcterms:W3CDTF">2005-03-28T14:32:54Z</dcterms:modified>
  <cp:revision>2</cp:revision>
  <dc:subject/>
  <dc:title>DIADYNAMIC CURRENT(역동 전류)</dc:title>
</cp:coreProperties>
</file>