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8F590E-5523-4149-AA31-DB8CE155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72A065-6082-4724-A901-41AF8D79A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B1FDC0-8EE5-4973-AE91-8EC493836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550A1-4FBD-4611-AF53-7411437A4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FC63D-A69D-4AB1-A1A6-08B2BA42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1D890-F97A-49A0-8C6F-EED73E663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A045F-A4DC-4F3C-903F-CB2E14D2C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D66D7-6E29-405C-82C2-C6D5AADB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BA333-83F4-47D6-B39F-37B558A2C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AC9C2-387B-4A1C-B08E-AE57F38B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C632C-45F5-4AFE-9201-CE731594C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D413B-FF47-40A7-A29A-5752A278E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EBC51-CE92-450D-9F72-49E9DC079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885CA-D37E-444D-98BA-A3BD063B2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A707-EDC8-4D51-9953-3E4E80FE2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2348-A073-44FB-96BF-7DB174884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0C5AE-8F6D-4624-843A-5D0268A6FB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CC5E3C-0163-4B33-A25D-AFD015B0D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93AF2B-185E-4B20-9D5E-CA75D32DF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041AE9-121A-4289-B736-4D5681F9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81B88-B425-4C00-8424-5793A720B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204D3A-60C9-4AC0-8CFA-1CF6BBD0E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B7684-3ECA-4187-9D48-9789F2F21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BCA89A-771A-43AE-97C6-5001FB672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93717-DEED-44B4-B4AE-3D44F1D1E49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굴림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굴림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48109-AD2E-4C87-ACDA-44763C905D48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굴림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굴림"/>
              </a:rPr>
              <a:t>S S P </a:t>
            </a:r>
            <a:r>
              <a:rPr b="0" lang="zh-CN" sz="5000" spc="-1" strike="noStrike">
                <a:solidFill>
                  <a:srgbClr val="ffffff"/>
                </a:solidFill>
                <a:latin typeface="굴림"/>
              </a:rPr>
              <a:t>치 료</a:t>
            </a:r>
            <a:endParaRPr b="0" lang="en-US" sz="5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2971800" y="4266720"/>
            <a:ext cx="60199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376280" y="0"/>
            <a:ext cx="63928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86916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5219640" y="566100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7d"/>
                </a:solidFill>
                <a:latin typeface="굴림"/>
              </a:rPr>
              <a:t>경부 통증 유발시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93080" cy="71308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4500720" y="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깨 결림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388360" cy="684540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95280" y="404640"/>
            <a:ext cx="172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굴림"/>
              </a:rPr>
              <a:t>오  십 견</a:t>
            </a: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38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4360" y="0"/>
            <a:ext cx="6983280" cy="693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1144440"/>
            <a:ext cx="9144000" cy="45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539640" y="-42840"/>
            <a:ext cx="7993080" cy="68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굴림"/>
              </a:rPr>
              <a:t>SSP(silver spike point electrode):</a:t>
            </a:r>
            <a:r>
              <a:rPr b="0" lang="ko-KR" sz="4400" spc="-1" strike="noStrike">
                <a:solidFill>
                  <a:srgbClr val="000000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은도금한 삼각 원뿔 모양의 전극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needleless acpuncture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분류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표준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이개용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흡인식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L: 100-14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약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M:145-195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H: 260-300 mmHg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극의 전류분포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압박력에 비례하여 전류의 흐름이 많아짐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원추의 중심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고밀도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와 </a:t>
            </a: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TENS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의 차이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80880" y="19807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개발의 유래가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SP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 마취를 통해 발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ENS –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관문조절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효과점을 지향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동통 국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지배에 의거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모양이 다르다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통전방법이 다르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S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T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 혹은 고빈도 저주파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굴림"/>
              </a:rPr>
              <a:t>SSP </a:t>
            </a: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의 장단점 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장점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환자에게 안도감을 준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쾌적한 자극으로 치료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⑶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어린이 치료에 알맞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⑷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과민증 환자에게 적용이 편리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⑸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극강도를 적절히 조절할 수 있다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⑹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부작용이나 합병증이 없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⑺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자유로운 자세에서 치료가 가능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 ⑻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수단이 용이하고 치료방법이 간편하다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단점</a:t>
            </a:r>
            <a:r>
              <a:rPr b="0" lang="en-US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000000"/>
                </a:solidFill>
                <a:latin typeface="굴림"/>
              </a:rPr>
              <a:t>체모가 많은 부분에 부착이 어려움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치료적용 기술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일반적 적용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⑴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치료점의 선택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경혈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반응 양도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압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발통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운동점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말초신경 경로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환측의 반대측 건측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거자법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경학적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point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⑵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선택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전극의 극성에 따른 차이가 없다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신체 부위별 자극의 감수성을 도려해야 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85440"/>
            <a:ext cx="82296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⑶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파형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양방향성 대칭파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위상가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50-150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㎲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최근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SP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는 맥동폭은 좁게 전압은 높게 설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전기저항을 낮추기 위해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⑷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방법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연속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지속적 통전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간격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단속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③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소밀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혼합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서로 다른 주파수를 교대로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④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중 통전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(Trimix) 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Random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세가지 주파수를 임의로 발생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Sweep TRM: </a:t>
            </a:r>
            <a:r>
              <a:rPr b="0" lang="ko-KR" sz="2800" spc="-1" strike="noStrike">
                <a:solidFill>
                  <a:srgbClr val="000000"/>
                </a:solidFill>
                <a:latin typeface="굴림"/>
              </a:rPr>
              <a:t>한가지 주파수를 단계적으로 변화</a:t>
            </a: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"/>
          <p:cNvSpPr/>
          <p:nvPr/>
        </p:nvSpPr>
        <p:spPr>
          <a:xfrm>
            <a:off x="685800" y="4800600"/>
            <a:ext cx="76320" cy="685800"/>
          </a:xfrm>
          <a:custGeom>
            <a:avLst/>
            <a:gdLst>
              <a:gd name="textAreaLeft" fmla="*/ 22320 w 76320"/>
              <a:gd name="textAreaRight" fmla="*/ 76320 w 76320"/>
              <a:gd name="textAreaTop" fmla="*/ 28440 h 685800"/>
              <a:gd name="textAreaBottom" fmla="*/ 6573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⑸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주파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①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침술효과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1Hz, 3Hz, 5Hz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의 저빈도 주파수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연속 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저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내인성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morphine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성 물질 유리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 ②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중간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10-49Hz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(50Hz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이상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)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밀통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고빈도</a:t>
            </a: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000000"/>
                </a:solidFill>
                <a:latin typeface="½Å¸íÁ¶"/>
              </a:rPr>
              <a:t>A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δ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및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C </a:t>
            </a:r>
            <a:r>
              <a:rPr b="0" lang="ko-KR" sz="3200" spc="-1" strike="noStrike">
                <a:solidFill>
                  <a:srgbClr val="000000"/>
                </a:solidFill>
                <a:latin typeface="신명조"/>
                <a:ea typeface="신명조"/>
              </a:rPr>
              <a:t>섬유의 전도 차단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진통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취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순환개선 및 조절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항 종창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마비 개선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암시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소화관 안전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가골형성 촉진 효과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굴림"/>
              </a:rPr>
              <a:t>금 기 증</a:t>
            </a: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피부염 등으로 전극을 설치할 수 없는 경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인공 심장기 착용자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심근 경색 등 중증 심장질환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뇌혈관장애 직후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열이 있을 때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굴림"/>
              </a:rPr>
              <a:t>임신 초기</a:t>
            </a: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18T08:51:36Z</dcterms:created>
  <dc:creator>win xp</dc:creator>
  <dc:description/>
  <dc:language>en-US</dc:language>
  <cp:lastModifiedBy>win xp</cp:lastModifiedBy>
  <dcterms:modified xsi:type="dcterms:W3CDTF">2005-04-29T20:09:15Z</dcterms:modified>
  <cp:revision>13</cp:revision>
  <dc:subject/>
  <dc:title>SSP, MC, FES</dc:title>
</cp:coreProperties>
</file>