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8C954-7C14-4987-8774-3CA021C26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075B-81F9-42C6-B428-3068B93D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587C-66EF-432C-A067-FAB759767F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52B9-4477-4961-8894-D25EBE2AC4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BACED-3A4D-46EA-8AC8-2560BAE4B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CFF2E-9C59-42D5-8670-2577DF782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8E4E2-D94B-422C-BBCD-72FC28A00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7EF89-7B1A-49ED-8B9D-D56105EB4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8A99B-D846-4318-9D70-5B6CFA160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41EE-ED4E-4626-9C76-D75C2287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9481F-65A1-45CF-86BF-86ED0708B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3CF0-BB0B-48F6-8468-20E88A77D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BAFFF-CDAD-453F-91E4-186C3162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23600-0BB4-46C8-AA6E-33686FD94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B0278-8808-43D2-9B7B-AE2B74B76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51E87-9F7F-4556-9292-EF5380CFA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9296A-7356-4202-8800-088CEC5AE5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C98C-2157-498E-B91A-0731940E2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1FE5-4010-4257-A683-9C668433B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4B65-059F-4C13-B39D-7E3970A1D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DA95-59C5-4522-904E-FCBBE790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23310-17FC-4390-88B7-512D7A77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1053-E0D2-4B3F-A7A3-D0653F14C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03A3-6B99-4B4E-BDA3-942E44032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83FF-4F87-4502-93F2-F4D77ABE7F21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C1C8-3312-445B-B8EB-1A320E14FA25}" type="slidenum">
              <a:rPr b="0" lang="en-US" sz="1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lvl="2" marL="914400" indent="227160" algn="ctr">
              <a:spcBef>
                <a:spcPts val="601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5b5249"/>
              </a:solidFill>
              <a:latin typeface="굴림"/>
            </a:endParaRPr>
          </a:p>
          <a:p>
            <a:pPr lvl="3" marL="1371600" indent="112680" algn="ctr">
              <a:spcBef>
                <a:spcPts val="4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b5249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0666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이온도입치료</a:t>
            </a:r>
            <a:r>
              <a:rPr b="0" lang="ko-KR" sz="4400" spc="-1" strike="noStrike">
                <a:solidFill>
                  <a:srgbClr val="2a3d7a"/>
                </a:solidFill>
                <a:latin typeface="굴림"/>
              </a:rPr>
              <a:t>(Iontophoresis, Ion transfer)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038320" y="43513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640" y="188640"/>
            <a:ext cx="7772400" cy="64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a3d7a"/>
                </a:solidFill>
                <a:latin typeface="굴림"/>
              </a:rPr>
              <a:t>주의사항 </a:t>
            </a:r>
            <a:endParaRPr b="0" lang="en-US" sz="40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29944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항생제와 소독붕대로 치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화학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알칼리 화상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양극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산성 화학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열화상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온에 의한 과민반응과 알러지 반응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해산물 알러지인 경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②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정맥내 신우조영술에 좋지 않은 반응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Iodine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사용하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③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천식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Mecholyl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의 냄새가 좋지 않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④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아스피린에 대해 문제가 있는 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salicylates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로 이온도입 시 별로 효과 없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  ⑤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금속 민감환자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: copper, zinc magnesium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등의 사용시에도 같은 반응이 나타날 수  있음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 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 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기쇼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이온도입치료의 장단점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9640" y="1773000"/>
            <a:ext cx="8299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장점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품을 피부를 통해 주입하므로 소화기계 장애가 없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주사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(injection)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에서 나타날 수 있는 피부손상이나 통증이 없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병변이 피부 가까이 있는 경우 직접 약물을 치료부위에 정확히 적용할 수 있다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침범된 기관의 치료 시 피부 장기 반사궁을 통한 간접적인 혈액순환 증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물이 피하에 저장되어 치료효과가 장시간 지속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2)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단점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극성이 있는 약물을 제외하고는 이온도입이 안됨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도입된 이온의 양을 정확히 측정하기가 어렵다 →과다용량에 의한 부작용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042920" y="0"/>
            <a:ext cx="7058160" cy="69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1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정의 및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09480" y="2101320"/>
            <a:ext cx="8229600" cy="460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용어정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도입치료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직류전류를 이용해서 약물 이온을 피부 또는 점막을 통해 신체의 안으로 침투시키는 치료방법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이온화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물질이 해리되어 전하를 띤 입자 즉 양이온과 음이온으로 나누어지는 현상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기영동</a:t>
            </a: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전류에 의해 이온이 이동하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990720"/>
            <a:ext cx="815328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4) Cataphoresis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리되지 않은 지방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단백질 등과 같은 콜로이드 분자가 음극으로 이동하는 특성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)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음파영동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phonophoresis)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초음파를 이용하여 피부를 통해 약물을 피하조직으로 침투시키는 것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관련실험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굴림"/>
              </a:rPr>
              <a:t>Leduc</a:t>
            </a: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의 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b5249"/>
                </a:solidFill>
                <a:latin typeface="굴림"/>
              </a:rPr>
              <a:t>감자실험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00000" y="69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3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물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5564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의 이온농도 최대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용매의 이온농도 최저 → 최대효과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약물농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일반적으로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5%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전류강도 낮을수록 효과적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5mA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부위 혈류량이 많을수록 약물의 농도 희석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-457200">
              <a:lnSpc>
                <a:spcPct val="90000"/>
              </a:lnSpc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치료시간 보통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5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 이하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점막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1-3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피부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5-2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심부조직 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30-60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5b5249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굴림"/>
              </a:rPr>
              <a:t>4. </a:t>
            </a: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생리적 특성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1536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침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대개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mm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하의 진피층까지 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피하주사와 비슷한 효과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에 의한 이온침투깊이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적어도 근육층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㎝ 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지용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조직에 바로침투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친수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이온화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복합 성질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전류의 밀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 전극의 전류 밀도를 낮추어야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.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의 크기를 양극의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배로 한다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자극성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음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&gt;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양극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).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활성전극의 표면적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㎠ 당 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1-0.5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 또는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0.5-1</a:t>
            </a:r>
            <a:r>
              <a:rPr b="0" lang="ko-KR" sz="2800" spc="-1" strike="noStrike">
                <a:solidFill>
                  <a:srgbClr val="000000"/>
                </a:solidFill>
                <a:latin typeface="바탕"/>
                <a:ea typeface="바탕"/>
              </a:rPr>
              <a:t>㎃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1066680" y="1066320"/>
            <a:ext cx="7772400" cy="51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3)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이온도입의 양 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  <a:p>
            <a:pPr marL="45720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: I × t × ECE(I 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류강도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ECE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전기화학당량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, t: 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치료시간</a:t>
            </a:r>
            <a:r>
              <a:rPr b="0" lang="ko-KR" sz="3200" spc="-1" strike="noStrike">
                <a:solidFill>
                  <a:srgbClr val="000000"/>
                </a:solidFill>
                <a:latin typeface="바탕"/>
                <a:ea typeface="바탕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838080"/>
            <a:ext cx="7772400" cy="7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굴림"/>
              </a:rPr>
              <a:t>치료적 적용 및 주의사항 </a:t>
            </a:r>
            <a:endParaRPr b="0" lang="en-US" sz="4400" spc="-1" strike="noStrike">
              <a:solidFill>
                <a:srgbClr val="2a3d7a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813744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1)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적용단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⑴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모든 다이얼은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zero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⑵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기계의 선택 스위치를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ntinuous galvanic curren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에 맞춘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⑶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사용하려는 이온의 극성과 활성전극의 극성을 일치 시킨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⑷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치료부위에 사용할 이온 연고를 바르고 패드를 덮는다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⑸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활성 패드전극은 거즈나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cotton, felt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로 하며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패드의 두께는 </a:t>
            </a: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0.5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인치 정도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b5249"/>
                </a:solidFill>
                <a:latin typeface="굴림"/>
              </a:rPr>
              <a:t>  ⑹ </a:t>
            </a:r>
            <a:r>
              <a:rPr b="0" lang="zh-CN" sz="2800" spc="-1" strike="noStrike">
                <a:solidFill>
                  <a:srgbClr val="5b5249"/>
                </a:solidFill>
                <a:latin typeface="굴림"/>
              </a:rPr>
              <a:t>금속전극이 직접 피부에 닿지 않도록 주의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684360" y="836280"/>
            <a:ext cx="815472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⑺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에 집중되는 화학적 자극제에 의한 피부손상 예방 ← 음극전극 크기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      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⑻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부착이 곤란한 곳은 욕조를 분산전극으로 사용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⑼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전선이 피부에 닿지 않도록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⑽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약하게 찌르는 듯한 감각이 들때까지 올리는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불쾌감을 느낄 때는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2-3mA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까지 감소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⑾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burning sensation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이 발생되거나 자극이 심해지면 즉시 강도를 서서히 즐이고 피부를      검사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⑿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치료 종료시 전극 분리 후 패드 및 전극에 생성된 화합물을 제거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패드 건조 보관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  <a:p>
            <a:pPr marL="4572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  ⒀ </a:t>
            </a:r>
            <a:r>
              <a:rPr b="0" lang="ko-KR" sz="2800" spc="-1" strike="noStrike">
                <a:solidFill>
                  <a:srgbClr val="5b5249"/>
                </a:solidFill>
                <a:latin typeface="굴림"/>
              </a:rPr>
              <a:t>음극 및 피부를 주위해서 관찰 </a:t>
            </a:r>
            <a:endParaRPr b="0" lang="en-US" sz="2800" spc="-1" strike="noStrike">
              <a:solidFill>
                <a:srgbClr val="5b524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05:57:42Z</dcterms:created>
  <dc:creator>ahn mock</dc:creator>
  <dc:description/>
  <dc:language>en-US</dc:language>
  <cp:lastModifiedBy>win xp</cp:lastModifiedBy>
  <dcterms:modified xsi:type="dcterms:W3CDTF">2005-03-14T15:04:18Z</dcterms:modified>
  <cp:revision>5</cp:revision>
  <dc:subject/>
  <dc:title>이온도입치료(Iontophoresis, Ion transfer)</dc:title>
</cp:coreProperties>
</file>